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8059-5837-40F1-97FD-83F3434EDD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ULSIOXIME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MARAS ESPACIAD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PAP. VENTILACION NO INVAS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eumotórax dcho. La flecha blanca indica la línea pleural visce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eumotórax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eumomediastino: las flechas blancas indican las imágenes radiolúcidas correspondientes al aire extrapleural en cuello y axilas (enfisema subcutáneo), así como en mediast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r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F92-EC8D-4E85-8303-4EE3911A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B89-FC87-482D-9DEA-E6A8F583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14D-09EC-4253-B347-11469B75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B55-8515-4C21-96DF-8E1F12DD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42B-33A5-4C04-B38E-2260C5AC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3E7-BC85-404E-9ACA-FA5EEC0F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3FF-4856-48B7-B9A0-737DEEB1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E73-FB1B-4F48-8DDF-12D6E26C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69F-3DDF-4AA4-97BE-4C5E507A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2C2-EC52-4952-BDE8-02AB0E5B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8C0-69E0-40E1-954F-B6C9AD8C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B73-7862-4C21-A0FC-E7D882FB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C934-1C98-4FBD-BE8B-1361D33494E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cc66"/>
                </a:solidFill>
                <a:latin typeface="Times New Roman"/>
              </a:rPr>
              <a:t>PACIENTE ASMATI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657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MANEJO EN URG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45720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BELEN  CARTIMIL  N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4572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PRUEBAS COMPLEMEN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85345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828800"/>
            <a:ext cx="8382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Medición del pico de flujo espiratorio o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PEAK FLOW  (PE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Espiro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Rx de tór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Pulsioxi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G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nalí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sma1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ef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sma5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gasometria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GASOMET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4572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CLASIFICACION DE LA GRAVEDAD DE LA CRISIS SEGÚN CLINICA Y DATOS DE LA FUNCION RESPIR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2743200"/>
            <a:ext cx="71625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L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MODE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G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MUY G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304920"/>
            <a:ext cx="785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CLASIFICACION DE LA GRAVEDAD DE LA CRISIS SEGÚN CLINICA Y DATOS DE LA FUNCION RESPIR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828800"/>
            <a:ext cx="5105160" cy="50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ffcc66"/>
                </a:solidFill>
                <a:uFillTx/>
                <a:latin typeface="Times New Roman"/>
              </a:rPr>
              <a:t>LE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Síntomas sólo con ejerc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Capaz de hablar norm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FC&lt;100 l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No existe pulso paradój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Buena respuesta al tratamiento 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32680" y="198108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1981080"/>
            <a:ext cx="2895480" cy="360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FUNCION RESPIR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EF &gt;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EF(l/min) &gt;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at O2 &gt;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O2 &gt;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CO2 &lt;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3808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CLASIFICACION DE LA GRAVEDAD DE LA CRISIS SEGÚN CLINICA Y DATOS DE LA FUNCION RESPIR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2133720"/>
            <a:ext cx="3276720" cy="360648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FUNCION RESPIR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EF = 50-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EF(l/min) = 150-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at O2 &gt; 91-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O2 = 60-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CO2 &lt;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146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981080"/>
            <a:ext cx="518184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ffcc66"/>
                </a:solidFill>
                <a:uFillTx/>
                <a:latin typeface="Times New Roman"/>
              </a:rPr>
              <a:t>MODER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Disnea de reposo y opresión  torác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Habla frases co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FC 100-120 l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ulso paradójico (10-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ibilancias espirat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aciente agitado. Síntomas noctu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Alivio parcial con tratamiento habi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2362320"/>
            <a:ext cx="3429000" cy="360648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FUNCION RESPIR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EF &lt; 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EF(l/min) &lt;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at O2 &lt;9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O2 = 60-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CO2 =35-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880"/>
            <a:ext cx="78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CLASIFICACION DE LA GRAVEDAD DE LA CRISIS SEGÚN CLINICA Y DATOS DE LA FUNCION RESPIR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752480"/>
            <a:ext cx="480060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ffcc66"/>
                </a:solidFill>
                <a:uFillTx/>
                <a:latin typeface="Times New Roman"/>
              </a:rPr>
              <a:t>GR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Disnea importante. Diaforesis y  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   agitación. Paciente sen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Habla dificultosa. Sólo pala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Uso de musculatura acces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FR &gt; 30 rpm y FC &gt; 120l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ulso paradójico &gt;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ibilancias ins y espirat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304920"/>
            <a:ext cx="785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CLASIFICACION DE LA GRAVEDAD DE LA CRISIS SEGÚN CLINICA Y DATOS DE LA FUNCION RESPIR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133720"/>
            <a:ext cx="3048120" cy="360648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FUNCION RESPIR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EF &lt; 3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EF(l/min)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at O2 &lt;9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O2 &lt;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CO2 &gt;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98108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752480"/>
            <a:ext cx="449604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ffcc66"/>
                </a:solidFill>
                <a:uFillTx/>
                <a:latin typeface="Times New Roman"/>
              </a:rPr>
              <a:t>MUY GR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Confuso, agitado, cianó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Mov toracoabdominal paradój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ilencio auscult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Esfuerzo respiratorio dismin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Incapacidad para 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Taquicar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Ausencia de pulso paradój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4572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Times New Roman"/>
              </a:rPr>
              <a:t>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80773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362320"/>
            <a:ext cx="7848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Inflamación de las vías aéreas y obstrucción bronquial intermitente y reversible de forma espontánea o con trat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Sus exacerbaciones o crisis suponen 2.5-10% de las asistencias a un Servicio de Urge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533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457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TRAT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523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752480"/>
            <a:ext cx="8458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O2 por cánula nasal / mascarilla. Sat O2&gt; 9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Fluidoterapia iv si existe deshidra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Broncodilatad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-B2 Agonistas nebulizados de acción ráp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albutamol (Ventolin) 5 mg en 4ml suero a 6-8 lp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-Corticoides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Metilprednisolona (Urbason) 1 mg/kg en 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Antibioterapia si existe sobreinf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sma7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sma8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sma6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Times New Roman"/>
              </a:rPr>
              <a:t>RESPUESTA ADECUADA AL TRATAMIENTO Y 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371600"/>
            <a:ext cx="81532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B2 Agonista inhalado ( 2 inhalaciones/ 6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albutamol (Ventolin)   Terbutalina (Terbasmí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Corticoides inha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Beclometasona (Becloforte 250): 1 inh / 6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Budesonida (Pulmicort 200): 2 inh / 12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Fluticasona (Flixotide 250): 1 inh / 12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Corticoides o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Metilprednisolona (Urbason): 1mg/kg en dosis única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diaria matutina durante 5 días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rednisona (Dacortin): 40 mg/ 24 h disminuyendo 10 mg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cada 2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roncodilatador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RESPUESTA ADECUADA PERO REQUIERE 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905120"/>
            <a:ext cx="79250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B2 AGONISTAS: el mismo usado en urgencias, 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autado cada 4-6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CORTICOIDES IV: Urbason: 40 mg / 8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CORTICOIDES INHALADOS: a dosis antes 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refer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808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SI LA RESPUESTA EN URGENCIAS NO ES SATISFAC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905120"/>
            <a:ext cx="868680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Bromuro de Ipatropio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 nebulizado 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Atrovent 500 microg / 6 h que se puede añadir a la solución de B2 ag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Si con lo anterior la respuesta no es favor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Teofilina iv (Eufilin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Dosis ataque: 1.5 amp en 250cc G5% en 3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Dosis mantenimiento: 1.5 amp en 500cc G5%/ 8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sma4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29400" y="1108080"/>
            <a:ext cx="667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ÁGENES OBTENIDAS DEL CD 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RGENCIAS RESPIRATORIAS PATROCIN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BORATORIOS AVENTIS Y EDITADO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ALIA FAR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5335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FACTORES DESENCADEN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19320"/>
            <a:ext cx="8763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981080"/>
            <a:ext cx="8001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ALER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MEDIC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INFECCIONES RESPIRATORIAS VI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TRESS Y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UPRESION BRUSCA DE CORTIC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FALTA DE CUMPLIMENTACION DE  TRATAMIENTO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DE MANTEN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4572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ANIFESTACIONES CLI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43000"/>
            <a:ext cx="85345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8288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447920"/>
            <a:ext cx="83059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parición aguda de tos, disnea, sibilancias y opresión torácica aislados o combin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tros síntomas pueden sugerir la aparición de complica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*dolor pleurítico (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neumotórax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*dolor torácico irradiado a cuello(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neumomediastino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*fiebre(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neumonía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sma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eumotórax d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eumotorax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eumotórax d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sma3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09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EXPLORACION FIS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371600"/>
            <a:ext cx="838188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cc66"/>
                </a:solidFill>
                <a:latin typeface="Times New Roman"/>
              </a:rPr>
              <a:t>Signos clásicos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Sibilancias, roncus, uso de músculos accesorios, taquipnea con tiempo espiratorio prolongado y pulso paradój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cc66"/>
                </a:solidFill>
                <a:latin typeface="Times New Roman"/>
              </a:rPr>
              <a:t>Signos que pueden indicar compl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Ingurgitación yugular, desviación traqueal, hipotensión grave y persistente, asimetría en la movilidad de los hemitóra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iraje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09:56:38Z</dcterms:created>
  <dc:creator>Unknown User</dc:creator>
  <dc:description/>
  <dc:language>en-US</dc:language>
  <cp:lastModifiedBy>.</cp:lastModifiedBy>
  <dcterms:modified xsi:type="dcterms:W3CDTF">2003-11-27T20:09:02Z</dcterms:modified>
  <cp:revision>10</cp:revision>
  <dc:subject/>
  <dc:title>PACIENTE ASMATICO</dc:title>
</cp:coreProperties>
</file>