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png" ContentType="image/png"/>
  <Override PartName="/ppt/media/image12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36.png" ContentType="image/pn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32.jpeg" ContentType="image/jpeg"/>
  <Override PartName="/ppt/media/image4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148-57DD-4202-939B-ED2F546B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5FB-CDC9-4CEC-80A2-8074B311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083-DEF2-4075-9B17-D8EC9567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BD6-CAF0-4925-AB1C-0FA760EE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E82-6675-47FE-B839-4EC4ED14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2F9-1229-4781-938A-EB0EED0D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C49-A4C3-4187-A01E-A948657A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1A6-1F04-4C18-9C6D-8874E024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E1B-CE51-4FA3-86E6-F7F09B3E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79E-764E-48DE-842F-E2A95A87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21D-C59F-412C-93EE-8BB25E5F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067-106E-41F4-AA2F-7311A839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E296-3A27-47B9-8F49-CAC6052C8F6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dspain.com/curso_ekg/enlace_a_04_01.htm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6002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0000"/>
                </a:solidFill>
                <a:latin typeface="Times New Roman"/>
              </a:rPr>
              <a:t>CURSO EC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845820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. FDZ-ARRUTY F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rvicio de Ur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lejo Hospitalario Univers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antiago de Compost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leccion25_b" descr=""/>
          <p:cNvPicPr/>
          <p:nvPr/>
        </p:nvPicPr>
        <p:blipFill>
          <a:blip r:embed="rId2"/>
          <a:stretch/>
        </p:blipFill>
        <p:spPr>
          <a:xfrm>
            <a:off x="0" y="979560"/>
            <a:ext cx="4419720" cy="3576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038480" y="457200"/>
            <a:ext cx="495324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onaria izquierd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l tronco com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r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idamente se divide en 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descendente anterior y circunflej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(izquierda) irrigando aur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ula y ventr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ulo izquierdos 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olo una pequeña porc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de ventr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ulo izquierdo corresponde a la coronaria derech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l irrigar casi todo el ventr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ulo izquierdo , su oclus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, cuanto mas alta , m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 nefastas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onsecuencias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rigina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hock cardiog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ic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allo cardiac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neurismas ventriculare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iscinesias de los m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culos papilare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otura del septo 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ibrilac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ventricular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u obstrucc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causa toda la variedad de 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IAMs anteriores , laterales ,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anterolaterales etc..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el n</a:t>
            </a: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ú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mero de derivaciones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afecta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 en el EKG se correlaciona con la extens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, gravedad y pron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tico del IAM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55240" y="33336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CG  PATOLO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VALO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1371600"/>
            <a:ext cx="579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TO...............Preex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RGO...............Bloqueo AV 1er 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........Disociación 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DA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27672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cha..........Crecimiento auricular izquie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.............Crecimiento auricular der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8769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LEJO Q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472428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cho.......Crecim ventricular. Bloqueo 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nda Q &gt;0.04 s........Infa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371600"/>
            <a:ext cx="75960" cy="1600200"/>
          </a:xfrm>
          <a:custGeom>
            <a:avLst/>
            <a:gdLst>
              <a:gd name="textAreaLeft" fmla="*/ 48600 w 75960"/>
              <a:gd name="textAreaRight" fmla="*/ 76320 w 759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276720"/>
            <a:ext cx="75960" cy="114300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8006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457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GMENTO 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304920"/>
            <a:ext cx="5715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censo................Lesión subepicár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enso..............Lesión subendocár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brecarga ventr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DA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1981080"/>
            <a:ext cx="6172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gativa.................Isquemia subepicár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brecarga ventr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124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QUIC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3124080"/>
            <a:ext cx="7315200" cy="17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RS&lt;0.12 s.........Taquicardia paroxística supra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RS&gt;= 0.12 s......Taquicardia ventr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rregular...............Fibrilación aur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rsades dePoi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181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ADIC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18148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radicardia sinu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fermedad del S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oqueo 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&gt;100 l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&lt; 60 l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049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200400"/>
            <a:ext cx="75960" cy="1371600"/>
          </a:xfrm>
          <a:custGeom>
            <a:avLst/>
            <a:gdLst>
              <a:gd name="textAreaLeft" fmla="*/ 48600 w 75960"/>
              <a:gd name="textAreaRight" fmla="*/ 76320 w 759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5257800"/>
            <a:ext cx="75960" cy="1447920"/>
          </a:xfrm>
          <a:custGeom>
            <a:avLst/>
            <a:gdLst>
              <a:gd name="textAreaLeft" fmla="*/ 48600 w 75960"/>
              <a:gd name="textAreaRight" fmla="*/ 76320 w 759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leccion21_c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7315200" cy="3965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380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Hipertrofia ventricular dere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143000"/>
            <a:ext cx="2819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p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ia,c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nosis pulmonar, 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5335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Hipertrofia ventricular izquier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eccion22_a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6629400" cy="3584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76720" y="838080"/>
            <a:ext cx="571500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TA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lvulopat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 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tica y mitral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ocardiopatias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rdiopat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 isqu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19320" y="21337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0000"/>
                </a:solidFill>
                <a:latin typeface="Times New Roman"/>
              </a:rPr>
              <a:t>BLOQUEOS DE RA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533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BLOQUEO COMPLETO RAMA IZQUIERDA DEL HAZ DE 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752480"/>
            <a:ext cx="8305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RS an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RS &gt; 0.12 (si es menor es incomple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rfología en M en V5 y V6 (derivaciones izquier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mbios secundarios de la repolarización (ST y T patológicos con QRS anch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VI asoci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ve en HTA y en cardiopatía isqué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7760" y="6094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BRIH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brihh1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77724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457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BLOQUEO COMPLETO RAMA DERECHA DEL HAZ DE 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752480"/>
            <a:ext cx="83055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RS an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RS&gt;0.12 (si es menor es incomple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rfología en M en V1 y V2 (derivaciones derech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mbios secundarios en la repola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ede verse en personas s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ve en HVD, EPOC, Cor Pulmonale, 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840" y="38088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BRDH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rdhh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62012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eccion9_a" descr="calibracion"/>
          <p:cNvPicPr/>
          <p:nvPr/>
        </p:nvPicPr>
        <p:blipFill>
          <a:blip r:embed="rId2"/>
          <a:stretch/>
        </p:blipFill>
        <p:spPr>
          <a:xfrm>
            <a:off x="2133720" y="457200"/>
            <a:ext cx="5181480" cy="3646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4724280"/>
            <a:ext cx="5486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a calibración normal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Velocidad del papel 25 mm/s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Voltaje 10 mm de alto= 1 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41911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4267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.04 s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419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4267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.2 s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2362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2438280"/>
            <a:ext cx="10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382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0 s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3352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5053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0mm= 1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762120"/>
            <a:ext cx="5486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ff"/>
                </a:solidFill>
                <a:uFillTx/>
                <a:latin typeface="Times New Roman"/>
              </a:rPr>
              <a:t>ondas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squ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Times New Roman"/>
              </a:rPr>
              <a:t>é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cas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rica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icuda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egativas (subepicardio)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ositivas (subendocardio)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planada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 derivaciones concordantes anat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icamente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lteraciones del </a:t>
            </a:r>
            <a:r>
              <a:rPr b="1" lang="es-ES" sz="1400" spc="-1" strike="noStrike" u="sng">
                <a:solidFill>
                  <a:srgbClr val="0000ff"/>
                </a:solidFill>
                <a:uFillTx/>
                <a:latin typeface="Times New Roman"/>
              </a:rPr>
              <a:t>segmento ST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 su forma y/o posic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respecto a la l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ea isoel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tric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scendido mas de 1mm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levado (Prinzmetal)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ectificad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02920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GNIFIC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 estas alteraciones se acompañan de 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l</a:t>
            </a: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í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nica sugestiv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debe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os avisar y realizar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ergometr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 (test de esfuerzo)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a causa de la isquemia mioc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dica suele ser la 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obstrucci</a:t>
            </a: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n coronaria *fija*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por placas de ateroma , a veces se añade 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el espasmo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coronario o el 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desprendimiento de un trozo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de placa (embolizac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leccion23_a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962160" cy="2309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81280" y="3048120"/>
            <a:ext cx="55627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vemos  en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4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: descenso del ST con onda T (rojo) negativa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uy sugestiva de isquemi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5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: ST rectificado, descendido mas de 1 mm y con onda T negativ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6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: ST rectificado descendido y con T positiva y sim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ri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152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ISQU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leccion23_b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647712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3733920"/>
            <a:ext cx="746784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0000"/>
                </a:solidFill>
                <a:uFillTx/>
                <a:latin typeface="Times New Roman"/>
              </a:rPr>
              <a:t>DESCARTA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alteraciones secundarias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de la repolarizaci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 por hipertrofias y bloqueo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lteraciones </a:t>
            </a: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lectrol</a:t>
            </a: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ticas</a:t>
            </a: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hipopotasemi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toma de f</a:t>
            </a: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á</a:t>
            </a: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rmacos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(digital y antiarr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micos) que alteren la repolarizaci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iocardiopat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s (ecocardiograf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icarditi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olapso mitral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lcoholism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iperventilaci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ariantes de la normal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380880" y="3808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9810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En rojo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scensos pat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ogicos del ST y 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en azul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scenso lento  inespec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ico, y ascenso r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ido t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ico de la repolarizac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precoz , normal en j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venes y atl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914400" y="2819520"/>
            <a:ext cx="13182480" cy="4343040"/>
            <a:chOff x="-914400" y="2819520"/>
            <a:chExt cx="13182480" cy="4343040"/>
          </a:xfrm>
        </p:grpSpPr>
        <p:sp>
          <p:nvSpPr>
            <p:cNvPr id="138" name=""/>
            <p:cNvSpPr/>
            <p:nvPr/>
          </p:nvSpPr>
          <p:spPr>
            <a:xfrm>
              <a:off x="-914400" y="2819520"/>
              <a:ext cx="131824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" sz="15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914400" y="5625720"/>
              <a:ext cx="13182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leccion23_c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5121360" cy="1589040"/>
          </a:xfrm>
          <a:prstGeom prst="rect">
            <a:avLst/>
          </a:prstGeom>
          <a:ln w="0">
            <a:noFill/>
          </a:ln>
        </p:spPr>
      </p:pic>
      <p:pic>
        <p:nvPicPr>
          <p:cNvPr id="141" name="leccion23_d" descr=""/>
          <p:cNvPicPr/>
          <p:nvPr/>
        </p:nvPicPr>
        <p:blipFill>
          <a:blip r:embed="rId3"/>
          <a:stretch/>
        </p:blipFill>
        <p:spPr>
          <a:xfrm>
            <a:off x="990720" y="2895480"/>
            <a:ext cx="7315200" cy="2316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80880" y="5638680"/>
            <a:ext cx="876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 la izquierda en azul T sim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rica , negativa isqu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ica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 la derecha infarto reciente (horas) con onda Q de necrosis (amarillo) elevac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de ST por les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y T negativa isqu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3809880" y="4572000"/>
            <a:ext cx="12191400" cy="1676520"/>
            <a:chOff x="-3809880" y="4572000"/>
            <a:chExt cx="12191400" cy="1676520"/>
          </a:xfrm>
        </p:grpSpPr>
        <p:sp>
          <p:nvSpPr>
            <p:cNvPr id="144" name=""/>
            <p:cNvSpPr/>
            <p:nvPr/>
          </p:nvSpPr>
          <p:spPr>
            <a:xfrm>
              <a:off x="-3809880" y="4572000"/>
              <a:ext cx="4916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06280" y="4572000"/>
              <a:ext cx="72752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Vemos en amarillo el ST normal de un enfermo y la variaci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ó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n que experimenta tras el ejercicio (en rojo) con descenso y rectificaci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ó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n, mas evidentes en V5 y V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leccion23_e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62012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46280" y="-3465360"/>
            <a:ext cx="457668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22960" y="-3465360"/>
            <a:ext cx="539280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55627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                                  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IAM comienza con una elevaci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n del ST  a los pocos minutos y se sigue ,a la hora aproximadamente, de la aparici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n de ondas Q (amarillo) e inversi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n de ondas T.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rriba vemos una necrosis septal (V1-V2-V3) ,con isquemia inferior (T isqu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ica en II, III, a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F en ver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leccion24_a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553080" cy="30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38280" y="68580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das Q patol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ó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icas (necrosis mioc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á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d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i son mayores de 0.04 (1 cuadradito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i son muy profund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i son mayores de 1/4 de la siguiente R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i aparecen en derivaciones congruentes anat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icamente (II,III,VF)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i existe cl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ica de IAM pasado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762120"/>
            <a:ext cx="48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28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NEC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4648320"/>
            <a:ext cx="8153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Infarto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anteroseptal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de 30 minutos de evoluc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con gran elevac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del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T en V1-2-3-4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, invers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de la onda T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hasta V5 y en I y aVL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, ondas Q patol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icas en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1-V2-V3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on los d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s el ST descender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a la l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ea isoel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trica , la T persistir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negativa durante meses o años , y la onda Q quedara  como huella de la necrosis sufrida por el miocardio, de por vi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leccion24_b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153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-152280"/>
            <a:ext cx="5708520" cy="9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52280"/>
            <a:ext cx="8763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ON D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IA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ur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(afecta a todo el espesor de la pared ventricular)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: con onda Q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 transmural : sin onda Q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ogr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á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anterior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Q en V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   I - aVL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desc.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nterior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anterosepta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en V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   I - aVL  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desc.anterior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latera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  en V5-V6  I-aVL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circunfleja izquierd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posterior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R en V1-V2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coronaria derech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inferior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(diafragm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ico) en II-III-aVF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coronaria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izquierda o derecha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ú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 dominanci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1219320" y="193680"/>
            <a:ext cx="4570560" cy="66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193680"/>
            <a:ext cx="5638680" cy="66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 1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emos en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V1-V3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una onda R alta y ancha que es la imagen especular de una onda Q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farto de cara posterio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l ST y T descendidos y convexos en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V1-V3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ner en cuent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que todos estos datos EKG se acompañan de c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ca de IAM y an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ica (CPK-MB) que confirma el diag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tic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leccion26_b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251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914400" y="-609480"/>
            <a:ext cx="45705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914400" y="1104840"/>
            <a:ext cx="45705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4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20040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 2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rriba vemos un EKG previo (anodino) de un enferm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bajo vemos ese mismo enfermo con un IAM posteroinferior de 1 mes de evolucio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zul ondas R alt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Q especulares) de necros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 verde y en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V2-V4 ondas T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simetricas, acuminadas, altas (especulares) de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isquemia posteri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 verde y en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V5-V6 ondas T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isq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icas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isquemia later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leccion26_c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61722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66680" y="457200"/>
            <a:ext cx="7239240" cy="56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MPLICACIONES DEL I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icarditis (roce pericárd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llo card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plo sistólico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tura del tabique, disfunción transitoria o permanente de los músculos papilares con insuficiencia mitral agu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ritmias 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loqueos, extrasístoles, TV, FV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hock cardiogé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eurisma ventricular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i persiste la elevación del ST en el tiemp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ptura cardí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ombosis mural y embolismo pulm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leccion08_a" descr="leccion08_a.jpg (22379 bytes)"/>
          <p:cNvPicPr/>
          <p:nvPr/>
        </p:nvPicPr>
        <p:blipFill>
          <a:blip r:embed="rId2"/>
          <a:stretch/>
        </p:blipFill>
        <p:spPr>
          <a:xfrm>
            <a:off x="380880" y="2286000"/>
            <a:ext cx="3459240" cy="3184560"/>
          </a:xfrm>
          <a:prstGeom prst="rect">
            <a:avLst/>
          </a:prstGeom>
          <a:ln w="0">
            <a:noFill/>
          </a:ln>
        </p:spPr>
      </p:pic>
      <p:pic>
        <p:nvPicPr>
          <p:cNvPr id="55" name="vectores1" descr="activacion cardiaca"/>
          <p:cNvPicPr/>
          <p:nvPr/>
        </p:nvPicPr>
        <p:blipFill>
          <a:blip r:embed="rId3"/>
          <a:stretch/>
        </p:blipFill>
        <p:spPr>
          <a:xfrm>
            <a:off x="5029200" y="2133720"/>
            <a:ext cx="3498840" cy="394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52480" y="2286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 ELECTRICO CARD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1430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cribe la dirección en la que se propaga la onda de des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leccion27_a" descr=""/>
          <p:cNvPicPr/>
          <p:nvPr/>
        </p:nvPicPr>
        <p:blipFill>
          <a:blip r:embed="rId2"/>
          <a:stretch/>
        </p:blipFill>
        <p:spPr>
          <a:xfrm>
            <a:off x="914400" y="1104840"/>
            <a:ext cx="73152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2120" y="11430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7a92f8"/>
                </a:solidFill>
                <a:uFillTx/>
                <a:latin typeface="Times New Roman"/>
              </a:rPr>
              <a:t>HIPOPOTASEMIA</a:t>
            </a:r>
            <a:r>
              <a:rPr b="1" lang="es-ES" sz="2000" spc="-1" strike="noStrike" u="sng">
                <a:solidFill>
                  <a:srgbClr val="000080"/>
                </a:solidFill>
                <a:uFillTx/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a vemos a la izquierda en los complejos sobre fondo azul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AUSAS FRECUENTE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o de diur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ico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orticoide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hiperemesi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iarre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hiperaldosteronism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06720" y="-1981080"/>
            <a:ext cx="4152960" cy="12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leccion30_a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51460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9480" y="3657600"/>
            <a:ext cx="4876920" cy="257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KG (alterado en muchas derivacio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EXTRASISTO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planamiento y ensanchamiento de la T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Times New Roman"/>
              </a:rPr>
              <a:t>depresi</a:t>
            </a: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3333cc"/>
                </a:solidFill>
                <a:latin typeface="Times New Roman"/>
              </a:rPr>
              <a:t>n del</a:t>
            </a: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 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nda U prominente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largamiento del QT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falso (fusión de la T con la U)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R alargad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ALTERACIONES ELECTROLI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990720"/>
            <a:ext cx="4038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es-ES" sz="2000" spc="-1" strike="noStrike" u="sng">
                <a:solidFill>
                  <a:srgbClr val="7a92f8"/>
                </a:solidFill>
                <a:uFillTx/>
                <a:latin typeface="Times New Roman"/>
              </a:rPr>
              <a:t>HIPERPOTAS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   picudas y simétricas de base estrecha,sobre todo de V2 a V5 (diferenciarlo de l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squem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QT acor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sociaci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 AV , FV y paro cardiaco por asistoli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49520" y="-1447920"/>
            <a:ext cx="4842000" cy="10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leccion30_b" descr=""/>
          <p:cNvPicPr/>
          <p:nvPr/>
        </p:nvPicPr>
        <p:blipFill>
          <a:blip r:embed="rId2"/>
          <a:stretch/>
        </p:blipFill>
        <p:spPr>
          <a:xfrm>
            <a:off x="3962520" y="609480"/>
            <a:ext cx="4876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4572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U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suficiencia renal aguda y crón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ecr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mólisi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trogénico, diur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icos , IECAS.....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toacidosis diabét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ipoaldosteronism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iporeni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ico (diabet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83040" y="-914400"/>
            <a:ext cx="41529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leccion30_c" descr=""/>
          <p:cNvPicPr/>
          <p:nvPr/>
        </p:nvPicPr>
        <p:blipFill>
          <a:blip r:embed="rId2"/>
          <a:stretch/>
        </p:blipFill>
        <p:spPr>
          <a:xfrm>
            <a:off x="3200400" y="3200400"/>
            <a:ext cx="5562720" cy="2449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52480" y="5410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562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579132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rriba vemos el EKG de un enfermo con IRC  en el que observamos T t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ica de hiperpotasemia y QT alargado t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ico de la hipocalcemia que acompaña al cuad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3880" y="228600"/>
            <a:ext cx="48769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T L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0.35-0.44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447920"/>
            <a:ext cx="76960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IPOCAL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IPOMAGNES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IPOPOTAS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TIDEPRESIVOS TRICIC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NOTIA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TIARRITMICOS GRUPO Ia: Quinidina, procaina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TALOL, ANTIHISTAMINICOS, CISAPRIDA, ERITROMICINA, HALOPERID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380880" y="838080"/>
            <a:ext cx="575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s-ES" sz="1800" spc="-1" strike="noStrike" u="sng">
                <a:solidFill>
                  <a:srgbClr val="0000ff"/>
                </a:solidFill>
                <a:uFillTx/>
                <a:latin typeface="Times New Roman"/>
              </a:rPr>
              <a:t>DIGITAL a dosis t</a:t>
            </a:r>
            <a:r>
              <a:rPr b="1" lang="es-ES_tradnl" sz="1800" spc="-1" strike="noStrike" u="sng">
                <a:solidFill>
                  <a:srgbClr val="0000ff"/>
                </a:solidFill>
                <a:uFillTx/>
                <a:latin typeface="Times New Roman"/>
              </a:rPr>
              <a:t>ó</a:t>
            </a:r>
            <a:r>
              <a:rPr b="1" lang="es-ES" sz="1800" spc="-1" strike="noStrike" u="sng">
                <a:solidFill>
                  <a:srgbClr val="0000ff"/>
                </a:solidFill>
                <a:uFillTx/>
                <a:latin typeface="Times New Roman"/>
              </a:rPr>
              <a:t>x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l margen terap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utico de la digital es muy estrecho y por ello la intoxicaci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 digit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ica es muy frecuente, sobre todo en ancianos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ACTORES PREDISPONENT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olifarmaci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dad avanzad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ala situaci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 socio-econ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ic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suficiencia renal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ipotiroidism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lt.electrol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icas (diur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icos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xantes , aminogluc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idos....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ipopotasemi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ipomagnesemi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ipercalcemi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lcalosi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ipoxi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leccion31_a" descr="TAP con bloqueo AV variable"/>
          <p:cNvPicPr/>
          <p:nvPr/>
        </p:nvPicPr>
        <p:blipFill>
          <a:blip r:embed="rId2"/>
          <a:stretch/>
        </p:blipFill>
        <p:spPr>
          <a:xfrm>
            <a:off x="3429000" y="3505320"/>
            <a:ext cx="5715000" cy="2647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52480" y="3049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OXICACION DIGITA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leccion31_b" descr="cubeta digitalica"/>
          <p:cNvPicPr/>
          <p:nvPr/>
        </p:nvPicPr>
        <p:blipFill>
          <a:blip r:embed="rId2"/>
          <a:stretch/>
        </p:blipFill>
        <p:spPr>
          <a:xfrm>
            <a:off x="4495680" y="2362320"/>
            <a:ext cx="4496040" cy="2133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-304920" y="0"/>
            <a:ext cx="61722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l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Times New Roman"/>
              </a:rPr>
              <a:t>í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ica no-cardiac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(30% de enfermos)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ea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,vómitos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, diarrea..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lucinaciones , desorientaci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n , insomnio, cefalea, vision con halos de color amarillo (xantopsia) verde o rojo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l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Times New Roman"/>
              </a:rPr>
              <a:t>í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ica cardiac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rritmias desencadenantes de fallo cardiac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ualquier tipo de arritmi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umento de la excitabilidad cardiaca por focos ect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ico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bigeminismos y trigemin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sm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s ventriculare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AP con bloqueo AV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A lent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enos frecuentes los focos auriculare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bloqueo AV con bradicardias extrema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ncope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alpitacione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CVs,TIAs o deficits de riego cerebral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leccion31_c" descr="CPVs en rachas"/>
          <p:cNvPicPr/>
          <p:nvPr/>
        </p:nvPicPr>
        <p:blipFill>
          <a:blip r:embed="rId3"/>
          <a:stretch/>
        </p:blipFill>
        <p:spPr>
          <a:xfrm>
            <a:off x="304920" y="4648320"/>
            <a:ext cx="6095880" cy="1981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553080" y="4724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IGEMI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84400" y="1803240"/>
            <a:ext cx="6777000" cy="3232080"/>
            <a:chOff x="1184400" y="1803240"/>
            <a:chExt cx="6777000" cy="3232080"/>
          </a:xfrm>
        </p:grpSpPr>
        <p:sp>
          <p:nvSpPr>
            <p:cNvPr id="191" name=""/>
            <p:cNvSpPr/>
            <p:nvPr/>
          </p:nvSpPr>
          <p:spPr>
            <a:xfrm>
              <a:off x="1184400" y="1803240"/>
              <a:ext cx="6777000" cy="17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" sz="10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84400" y="3511440"/>
              <a:ext cx="67770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" sz="9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leccion31_e" descr="U hipokaliemica y cubeta"/>
          <p:cNvPicPr/>
          <p:nvPr/>
        </p:nvPicPr>
        <p:blipFill>
          <a:blip r:embed="rId2"/>
          <a:stretch/>
        </p:blipFill>
        <p:spPr>
          <a:xfrm>
            <a:off x="4114800" y="838080"/>
            <a:ext cx="4876920" cy="2414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-380880" y="0"/>
            <a:ext cx="46479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iagn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ó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ic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lto grado de sospecha cl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ic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KG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igoxinemia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0.5-2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g/ml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lectrolitos en sangr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to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upresi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 del f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rmac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rrecci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 de anomalias coadyuvant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rritmias lent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tropina iv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arcapasos transitorio o permane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rritmias r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id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nticuerpos fijadores de digoxin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leccion31_d" descr="TAP + Bloq AV completo + bigeminismo"/>
          <p:cNvPicPr/>
          <p:nvPr/>
        </p:nvPicPr>
        <p:blipFill>
          <a:blip r:embed="rId3"/>
          <a:stretch/>
        </p:blipFill>
        <p:spPr>
          <a:xfrm>
            <a:off x="228600" y="4765680"/>
            <a:ext cx="8817120" cy="140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600200" y="6248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oqueo completo AV+ bigemi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762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FIBRILACION AU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057400"/>
            <a:ext cx="7543800" cy="34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SIOPAT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scargas auriculares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o despolarización au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o contracción au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tivación ventricular err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52480" y="228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CG EN LA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21932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ritmia con RR irregular y QRS estre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ndulaciones línea de base (ondas 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usencia de ondas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berrancia: pequeños cambios morfología Q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ecg1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5410440" cy="1211040"/>
          </a:xfrm>
          <a:prstGeom prst="rect">
            <a:avLst/>
          </a:prstGeom>
          <a:ln w="0">
            <a:noFill/>
          </a:ln>
        </p:spPr>
      </p:pic>
      <p:pic>
        <p:nvPicPr>
          <p:cNvPr id="202" name="ECG2" descr=""/>
          <p:cNvPicPr/>
          <p:nvPr/>
        </p:nvPicPr>
        <p:blipFill>
          <a:blip r:embed="rId3"/>
          <a:stretch/>
        </p:blipFill>
        <p:spPr>
          <a:xfrm>
            <a:off x="2286000" y="5410080"/>
            <a:ext cx="548640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609480" y="380880"/>
            <a:ext cx="7365960" cy="2354040"/>
            <a:chOff x="609480" y="380880"/>
            <a:chExt cx="7365960" cy="2354040"/>
          </a:xfrm>
        </p:grpSpPr>
        <p:sp>
          <p:nvSpPr>
            <p:cNvPr id="59" name=""/>
            <p:cNvSpPr/>
            <p:nvPr/>
          </p:nvSpPr>
          <p:spPr>
            <a:xfrm>
              <a:off x="609480" y="380880"/>
              <a:ext cx="7365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480" y="745200"/>
              <a:ext cx="7365960" cy="68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480" y="753480"/>
              <a:ext cx="736596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Eje del QRS </a:t>
              </a:r>
              <a:br>
                <a:rPr sz="1400"/>
              </a:br>
              <a:br>
                <a:rPr sz="1400"/>
              </a:b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La </a:t>
              </a:r>
              <a:r>
                <a:rPr b="1" lang="es-ES" sz="1400" spc="-1" strike="noStrike">
                  <a:solidFill>
                    <a:srgbClr val="ff0000"/>
                  </a:solidFill>
                  <a:latin typeface="Times New Roman"/>
                </a:rPr>
                <a:t>derivaci</a:t>
              </a:r>
              <a:r>
                <a:rPr b="1" lang="es-ES_tradnl" sz="1400" spc="-1" strike="noStrike">
                  <a:solidFill>
                    <a:srgbClr val="ff0000"/>
                  </a:solidFill>
                  <a:latin typeface="Times New Roman"/>
                </a:rPr>
                <a:t>ó</a:t>
              </a:r>
              <a:r>
                <a:rPr b="1" lang="es-ES" sz="1400" spc="-1" strike="noStrike">
                  <a:solidFill>
                    <a:srgbClr val="ff0000"/>
                  </a:solidFill>
                  <a:latin typeface="Times New Roman"/>
                </a:rPr>
                <a:t>n mas positiva</a:t>
              </a: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 corresponde con el eje.</a:t>
              </a:r>
              <a:r>
                <a:rPr b="1" lang="es-ES_tradnl" sz="1400" spc="-1" strike="noStrike">
                  <a:solidFill>
                    <a:srgbClr val="22147e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Si es DI el eje es 0º,</a:t>
              </a:r>
              <a:r>
                <a:rPr b="1" lang="es-ES_tradnl" sz="1400" spc="-1" strike="noStrike">
                  <a:solidFill>
                    <a:srgbClr val="22147e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si es DII el eje es 60º y si es aVF el eje es 90º.</a:t>
              </a:r>
              <a:br>
                <a:rPr sz="1400"/>
              </a:b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El eje normal esta entre </a:t>
              </a:r>
              <a:r>
                <a:rPr b="1" lang="es-ES_tradnl" sz="1400" spc="-1" strike="noStrike">
                  <a:solidFill>
                    <a:srgbClr val="22147e"/>
                  </a:solidFill>
                  <a:latin typeface="Times New Roman"/>
                </a:rPr>
                <a:t>-30</a:t>
              </a: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º y 90º.</a:t>
              </a:r>
              <a:br>
                <a:rPr sz="1400"/>
              </a:b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En aVL el eje estar</a:t>
              </a:r>
              <a:r>
                <a:rPr b="1" lang="es-ES_tradnl" sz="1400" spc="-1" strike="noStrike">
                  <a:solidFill>
                    <a:srgbClr val="22147e"/>
                  </a:solidFill>
                  <a:latin typeface="Times New Roman"/>
                </a:rPr>
                <a:t>í</a:t>
              </a: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a a -30º y seria un eje izquierdo.</a:t>
              </a:r>
              <a:br>
                <a:rPr sz="1400"/>
              </a:b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En DIII el eje estar</a:t>
              </a:r>
              <a:r>
                <a:rPr b="1" lang="es-ES_tradnl" sz="1400" spc="-1" strike="noStrike">
                  <a:solidFill>
                    <a:srgbClr val="22147e"/>
                  </a:solidFill>
                  <a:latin typeface="Times New Roman"/>
                </a:rPr>
                <a:t>í</a:t>
              </a: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a a 120º y seria un eje derech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Al nacer el coraz</a:t>
              </a:r>
              <a:r>
                <a:rPr b="1" lang="es-ES_tradnl" sz="1400" spc="-1" strike="noStrike">
                  <a:solidFill>
                    <a:srgbClr val="22147e"/>
                  </a:solidFill>
                  <a:latin typeface="Times New Roman"/>
                </a:rPr>
                <a:t>ó</a:t>
              </a: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n suele tener un eje derecho y en el anciano</a:t>
              </a:r>
              <a:r>
                <a:rPr b="1" i="1" lang="es-ES" sz="1200" spc="-1" strike="noStrike">
                  <a:solidFill>
                    <a:srgbClr val="22147e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22147e"/>
                  </a:solidFill>
                  <a:latin typeface="Times New Roman"/>
                </a:rPr>
                <a:t>se hace izquierdo</a:t>
              </a:r>
              <a:r>
                <a:rPr b="1" i="1" lang="es-ES" sz="1200" spc="-1" strike="noStrike">
                  <a:solidFill>
                    <a:srgbClr val="22147e"/>
                  </a:solidFill>
                  <a:latin typeface="Times New Roman"/>
                </a:rPr>
                <a:t>.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480" y="2252160"/>
              <a:ext cx="7365960" cy="68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ekg2a" descr="ekg2a.GIF (25380 bytes)"/>
          <p:cNvPicPr/>
          <p:nvPr/>
        </p:nvPicPr>
        <p:blipFill>
          <a:blip r:embed="rId2"/>
          <a:stretch/>
        </p:blipFill>
        <p:spPr>
          <a:xfrm>
            <a:off x="1447920" y="2514600"/>
            <a:ext cx="5029200" cy="392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228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NO FR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858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PRO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1523880"/>
            <a:ext cx="6019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% de la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menta la mortalidad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menta riesgo embolismo x 5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usa del 15% de ict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17880" y="1708200"/>
            <a:ext cx="4908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ECG4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2388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38080" y="12952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_tradnl" sz="5400" spc="-1" strike="noStrike">
                <a:solidFill>
                  <a:srgbClr val="ff0000"/>
                </a:solidFill>
                <a:latin typeface="Times New Roman"/>
              </a:rPr>
              <a:t>ARRITMI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320040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QRS EST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QRS 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QUIC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38080" y="762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TAQUICARDIA QRS ESTREC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90512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entrada intranodal: doble vía (50% de los ca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entrada utilizando vía accesoria (haz de Kent) en Sdr. de WPW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3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as: taquicardia auricular (10-15% de los ca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228600"/>
            <a:ext cx="660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Times New Roman"/>
              </a:rPr>
              <a:t>CPAs (extrasistolia auric</a:t>
            </a:r>
            <a:r>
              <a:rPr b="1" i="1" lang="es-ES_tradnl" sz="1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es-ES" sz="1400" spc="-1" strike="noStrike">
                <a:solidFill>
                  <a:srgbClr val="ff0000"/>
                </a:solidFill>
                <a:latin typeface="Times New Roman"/>
              </a:rPr>
              <a:t>lar)</a:t>
            </a:r>
            <a:br>
              <a:rPr sz="1400"/>
            </a:b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no se tratan, no existe pausa compensado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leccion18_a" descr="leccion18_a.jpg (24796 bytes)"/>
          <p:cNvPicPr/>
          <p:nvPr/>
        </p:nvPicPr>
        <p:blipFill>
          <a:blip r:embed="rId2"/>
          <a:stretch/>
        </p:blipFill>
        <p:spPr>
          <a:xfrm>
            <a:off x="762120" y="838080"/>
            <a:ext cx="4721040" cy="1611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90720" y="2743200"/>
            <a:ext cx="660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Taquicardia sinus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leccion18_c" descr="leccion18_c.jpg (35209 bytes)"/>
          <p:cNvPicPr/>
          <p:nvPr/>
        </p:nvPicPr>
        <p:blipFill>
          <a:blip r:embed="rId3"/>
          <a:stretch/>
        </p:blipFill>
        <p:spPr>
          <a:xfrm>
            <a:off x="762120" y="3276720"/>
            <a:ext cx="523548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228600"/>
            <a:ext cx="660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Times New Roman"/>
              </a:rPr>
              <a:t>Arritmia respiratoria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la frecuencia cardiaca aumenta algo en la inspiraci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leccion18_b" descr="leccion18_b.jpg (24819 bytes)"/>
          <p:cNvPicPr/>
          <p:nvPr/>
        </p:nvPicPr>
        <p:blipFill>
          <a:blip r:embed="rId2"/>
          <a:stretch/>
        </p:blipFill>
        <p:spPr>
          <a:xfrm>
            <a:off x="2514600" y="914400"/>
            <a:ext cx="5394240" cy="1851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-4876920"/>
            <a:ext cx="3809880" cy="16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leccion18_g" descr="leccion18_g.jpg (82475 bytes)"/>
          <p:cNvPicPr/>
          <p:nvPr/>
        </p:nvPicPr>
        <p:blipFill>
          <a:blip r:embed="rId3"/>
          <a:stretch/>
        </p:blipFill>
        <p:spPr>
          <a:xfrm>
            <a:off x="2057400" y="3276720"/>
            <a:ext cx="6183360" cy="3325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52280" y="2743200"/>
            <a:ext cx="4191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Times New Roman"/>
              </a:rPr>
              <a:t>Ritmo del seno coronario</a:t>
            </a: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 negativas en II,III, aVF y positiva en aVR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R 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280" y="228600"/>
            <a:ext cx="66088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Times New Roman"/>
              </a:rPr>
              <a:t>Taquicardia auricular multifocal o ritmo auricular caotico</a:t>
            </a:r>
            <a:br>
              <a:rPr sz="1600"/>
            </a:b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Epoc</a:t>
            </a:r>
            <a:br>
              <a:rPr sz="1600"/>
            </a:b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leccion18_e" descr="leccion18_e.jpg (19839 bytes)"/>
          <p:cNvPicPr/>
          <p:nvPr/>
        </p:nvPicPr>
        <p:blipFill>
          <a:blip r:embed="rId2"/>
          <a:stretch/>
        </p:blipFill>
        <p:spPr>
          <a:xfrm>
            <a:off x="2057400" y="990720"/>
            <a:ext cx="4857840" cy="1279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28600" y="2666880"/>
            <a:ext cx="6934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Times New Roman"/>
              </a:rPr>
              <a:t>TSV paroxistica 150-230 lpm. comienzo y fin brusco</a:t>
            </a:r>
            <a:br>
              <a:rPr sz="1400"/>
            </a:b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Idiopatica</a:t>
            </a:r>
            <a:br>
              <a:rPr sz="1600"/>
            </a:b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leccion18_d" descr="leccion18_d.jpg (44685 bytes)"/>
          <p:cNvPicPr/>
          <p:nvPr/>
        </p:nvPicPr>
        <p:blipFill>
          <a:blip r:embed="rId3"/>
          <a:stretch/>
        </p:blipFill>
        <p:spPr>
          <a:xfrm>
            <a:off x="1219320" y="3809880"/>
            <a:ext cx="617220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90720" y="9144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TAQUICARDIA QRS ANC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59092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quicardia ventr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trasistoles ventriculares o contracciones prematuras ventriculares (CPV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3880" y="4191120"/>
            <a:ext cx="6777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Fibrilacion ventricular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ecedida por rachas de CPVs con fenomeno *R sobre T</a:t>
            </a: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leccion32_e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8077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leccion27_a" descr=""/>
          <p:cNvPicPr/>
          <p:nvPr/>
        </p:nvPicPr>
        <p:blipFill>
          <a:blip r:embed="rId2"/>
          <a:stretch/>
        </p:blipFill>
        <p:spPr>
          <a:xfrm>
            <a:off x="914400" y="1104840"/>
            <a:ext cx="73152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leccion17" descr="leccion17.jpg (104829 bytes)"/>
          <p:cNvPicPr/>
          <p:nvPr/>
        </p:nvPicPr>
        <p:blipFill>
          <a:blip r:embed="rId2"/>
          <a:stretch/>
        </p:blipFill>
        <p:spPr>
          <a:xfrm>
            <a:off x="838080" y="3809880"/>
            <a:ext cx="7239240" cy="1600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3808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2 CPVs pareadas y después 3 CPVs politópicas , todo ello entraría dentro del grupo de mal pronostico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380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Extrasístoles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ventric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14800" y="838080"/>
            <a:ext cx="4114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orfologia de BCRD o 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BCRI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onomorfas o 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polimorfas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on periodo de acoplamiento fijo o 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Bigeminadas (1 latido normal una CPV)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rigeminadas (2 latidos normales una CPV)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areadas (2 CPVs seguidas)</a:t>
            </a:r>
            <a:br>
              <a:rPr sz="1400"/>
            </a:b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En tripletes</a:t>
            </a:r>
            <a:br>
              <a:rPr sz="1400"/>
            </a:b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Mas de 4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o taquicardia ventricular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"torsades de pointe</a:t>
            </a: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: QT largo, digital, hipopotasemia, tricícl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kg5a" descr="ekg5a.jpg (40082 bytes)"/>
          <p:cNvPicPr/>
          <p:nvPr/>
        </p:nvPicPr>
        <p:blipFill>
          <a:blip r:embed="rId2"/>
          <a:stretch/>
        </p:blipFill>
        <p:spPr>
          <a:xfrm>
            <a:off x="3809880" y="1828800"/>
            <a:ext cx="53341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-4343400" y="-1066680"/>
            <a:ext cx="9524520" cy="5790600"/>
            <a:chOff x="-4343400" y="-1066680"/>
            <a:chExt cx="9524520" cy="5790600"/>
          </a:xfrm>
        </p:grpSpPr>
        <p:grpSp>
          <p:nvGrpSpPr>
            <p:cNvPr id="67" name=""/>
            <p:cNvGrpSpPr/>
            <p:nvPr/>
          </p:nvGrpSpPr>
          <p:grpSpPr>
            <a:xfrm>
              <a:off x="-4343400" y="-1066680"/>
              <a:ext cx="9158760" cy="1424160"/>
              <a:chOff x="-4343400" y="-1066680"/>
              <a:chExt cx="9158760" cy="1424160"/>
            </a:xfrm>
          </p:grpSpPr>
          <p:sp>
            <p:nvSpPr>
              <p:cNvPr id="68" name=""/>
              <p:cNvSpPr/>
              <p:nvPr/>
            </p:nvSpPr>
            <p:spPr>
              <a:xfrm>
                <a:off x="-4343400" y="-1066680"/>
                <a:ext cx="9158760" cy="14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-4343400" y="-1063080"/>
                <a:ext cx="9158760" cy="165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-4343400" y="357840"/>
              <a:ext cx="4579560" cy="43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" sz="24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160" y="357840"/>
              <a:ext cx="4944960" cy="43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AGRUPACION ANATOM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es-ES" sz="16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II,III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 </a:t>
              </a:r>
              <a:r>
                <a:rPr b="1" lang="es-ES" sz="16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y aVF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 se suelen denominar derivaciones inferiores o diafragm</a:t>
              </a:r>
              <a:r>
                <a:rPr b="1" lang="es-ES_tradnl" sz="1600" spc="-1" strike="noStrike">
                  <a:solidFill>
                    <a:srgbClr val="22147e"/>
                  </a:solidFill>
                  <a:latin typeface="Times New Roman"/>
                </a:rPr>
                <a:t>á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ticas.</a:t>
              </a:r>
              <a:r>
                <a:rPr b="1" lang="es-ES_tradnl" sz="1600" spc="-1" strike="noStrike">
                  <a:solidFill>
                    <a:srgbClr val="22147e"/>
                  </a:solidFill>
                  <a:latin typeface="Times New Roman"/>
                </a:rPr>
                <a:t> 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Suelen tener alteraciones simult</a:t>
              </a:r>
              <a:r>
                <a:rPr b="1" lang="es-ES_tradnl" sz="1600" spc="-1" strike="noStrike">
                  <a:solidFill>
                    <a:srgbClr val="22147e"/>
                  </a:solidFill>
                  <a:latin typeface="Times New Roman"/>
                </a:rPr>
                <a:t>á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neas</a:t>
              </a:r>
              <a:r>
                <a:rPr b="1" lang="es-ES_tradnl" sz="1600" spc="-1" strike="noStrike">
                  <a:solidFill>
                    <a:srgbClr val="22147e"/>
                  </a:solidFill>
                  <a:latin typeface="Times New Roman"/>
                </a:rPr>
                <a:t> 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(necrosis inferior...).</a:t>
              </a:r>
              <a:br>
                <a:rPr sz="1600"/>
              </a:b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Puede asociarse a alteraciones en V1 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I y aVL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 son derivaciones izquierdas laterales altas y suelen tener tambi</a:t>
              </a:r>
              <a:r>
                <a:rPr b="1" lang="es-ES_tradnl" sz="1600" spc="-1" strike="noStrike">
                  <a:solidFill>
                    <a:srgbClr val="22147e"/>
                  </a:solidFill>
                  <a:latin typeface="Times New Roman"/>
                </a:rPr>
                <a:t>é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n cambios simult</a:t>
              </a:r>
              <a:r>
                <a:rPr b="1" lang="es-ES_tradnl" sz="1600" spc="-1" strike="noStrike">
                  <a:solidFill>
                    <a:srgbClr val="22147e"/>
                  </a:solidFill>
                  <a:latin typeface="Times New Roman"/>
                </a:rPr>
                <a:t>á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neos.</a:t>
              </a:r>
              <a:r>
                <a:rPr b="1" lang="es-ES_tradnl" sz="1600" spc="-1" strike="noStrike">
                  <a:solidFill>
                    <a:srgbClr val="22147e"/>
                  </a:solidFill>
                  <a:latin typeface="Times New Roman"/>
                </a:rPr>
                <a:t> 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Suelen aparecer alteraciones tambi</a:t>
              </a:r>
              <a:r>
                <a:rPr b="1" lang="es-ES_tradnl" sz="1600" spc="-1" strike="noStrike">
                  <a:solidFill>
                    <a:srgbClr val="22147e"/>
                  </a:solidFill>
                  <a:latin typeface="Times New Roman"/>
                </a:rPr>
                <a:t>é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n en V5 y V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aVR 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es una derivaci</a:t>
              </a:r>
              <a:r>
                <a:rPr b="1" lang="es-ES_tradnl" sz="1600" spc="-1" strike="noStrike">
                  <a:solidFill>
                    <a:srgbClr val="22147e"/>
                  </a:solidFill>
                  <a:latin typeface="Times New Roman"/>
                </a:rPr>
                <a:t>ó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n especular que sirve para indicar la colocaci</a:t>
              </a:r>
              <a:r>
                <a:rPr b="1" lang="es-ES_tradnl" sz="1600" spc="-1" strike="noStrike">
                  <a:solidFill>
                    <a:srgbClr val="22147e"/>
                  </a:solidFill>
                  <a:latin typeface="Times New Roman"/>
                </a:rPr>
                <a:t>ó</a:t>
              </a:r>
              <a:r>
                <a:rPr b="1" lang="es-ES" sz="1600" spc="-1" strike="noStrike">
                  <a:solidFill>
                    <a:srgbClr val="22147e"/>
                  </a:solidFill>
                  <a:latin typeface="Times New Roman"/>
                </a:rPr>
                <a:t>n correcta de los electrodos.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1676520"/>
            <a:ext cx="75438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arritmias frecuentes, en ocasiones obligan a la colocación de marcapasos transitorios o defini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eden causar astenia, síncopes o ser la causa precipitante de insuficiencia cardí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mos investigar los iones en sangre y la medicación que toma el paciente (digoxina, bb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iología: Cardiopatía isquémica, Endocarditis, CIA, Miocardiopatías, Cirugía cardíac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5335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BLOQUEOS A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380880"/>
            <a:ext cx="769644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BLOQUEO AV 1er G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la prolongación del PR por encima de 0.20seg. Todas las ondas P condu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leccion20_a" descr=""/>
          <p:cNvPicPr/>
          <p:nvPr/>
        </p:nvPicPr>
        <p:blipFill>
          <a:blip r:embed="rId2"/>
          <a:stretch/>
        </p:blipFill>
        <p:spPr>
          <a:xfrm>
            <a:off x="533520" y="2784600"/>
            <a:ext cx="777240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4720" y="457200"/>
            <a:ext cx="85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BLOQUEO AV DE 2 GRADO. MOBITZ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Wenckeba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52388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argamiento progresivo del PR hasta que una P no con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e buen pro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leccion20_b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8588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3520" y="228600"/>
            <a:ext cx="80010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LOQUEO AV DE 2º GRADO. MOBITZ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latido auricular se conduce y otro no (2: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No existe el alargamiento progresivo del PR. Es de peor pro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leccion20_c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8305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15360" y="380880"/>
            <a:ext cx="76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BLOQUEO AV DE 3er GRADO O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1295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latido auricular nunca llega al ventrículo, que tiene un ritmo más lento y propio, supraventricular. Aurículas y ventrículos laten por su cuenta. Se debe implantar un marca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leccion20_d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772400" cy="2362320"/>
          </a:xfrm>
          <a:prstGeom prst="rect">
            <a:avLst/>
          </a:prstGeom>
          <a:ln w="0">
            <a:noFill/>
          </a:ln>
        </p:spPr>
      </p:pic>
      <p:pic>
        <p:nvPicPr>
          <p:cNvPr id="246" name="leccion27_b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76960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leccion04_a" descr="haz click para verlas en un EK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228600"/>
            <a:ext cx="4778280" cy="4057560"/>
          </a:xfrm>
          <a:prstGeom prst="rect">
            <a:avLst/>
          </a:prstGeom>
          <a:ln w="0">
            <a:noFill/>
          </a:ln>
        </p:spPr>
      </p:pic>
      <p:pic>
        <p:nvPicPr>
          <p:cNvPr id="73" name="leccion04_c" descr=""/>
          <p:cNvPicPr/>
          <p:nvPr/>
        </p:nvPicPr>
        <p:blipFill>
          <a:blip r:embed="rId4"/>
          <a:stretch/>
        </p:blipFill>
        <p:spPr>
          <a:xfrm>
            <a:off x="1295280" y="4572000"/>
            <a:ext cx="6286680" cy="1978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685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RIVACIONES PRECORD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leccion13b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6324840" cy="371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267080"/>
            <a:ext cx="8686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ff0000"/>
                </a:solidFill>
                <a:uFillTx/>
                <a:latin typeface="Times New Roman"/>
              </a:rPr>
              <a:t>Onda P</a:t>
            </a: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polarización aur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ff0000"/>
                </a:solidFill>
                <a:uFillTx/>
                <a:latin typeface="Times New Roman"/>
              </a:rPr>
              <a:t>Intervalo PR</a:t>
            </a: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polarización auricular y el tiempo hasta el inicio de la activación ventr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</a:rPr>
              <a:t>Complejo QRS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polarización ventr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</a:rPr>
              <a:t>Segmento </a:t>
            </a:r>
            <a:r>
              <a:rPr b="1" i="1" lang="es-ES" sz="1800" spc="-1" strike="noStrike">
                <a:solidFill>
                  <a:srgbClr val="ff0000"/>
                </a:solidFill>
                <a:latin typeface="Times New Roman"/>
              </a:rPr>
              <a:t>ST</a:t>
            </a: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polarización ventricular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isolel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trico y recto</a:t>
            </a:r>
            <a:br>
              <a:rPr sz="2000"/>
            </a:b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</a:rPr>
              <a:t>Intervalo </a:t>
            </a:r>
            <a:r>
              <a:rPr b="1" i="1" lang="es-ES" sz="1800" spc="-1" strike="noStrike">
                <a:solidFill>
                  <a:srgbClr val="ff0000"/>
                </a:solidFill>
                <a:latin typeface="Times New Roman"/>
              </a:rPr>
              <a:t>QT 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xpresa la duración total de la sístole eléctrica ventricular.</a:t>
            </a:r>
            <a:r>
              <a:rPr b="1" i="1" lang="es-E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epende de la frecuencia pero su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le medir un </a:t>
            </a:r>
            <a:r>
              <a:rPr b="1" i="1" lang="es-ES" sz="1800" spc="-1" strike="noStrike">
                <a:solidFill>
                  <a:srgbClr val="0000ff"/>
                </a:solidFill>
                <a:latin typeface="Times New Roman"/>
              </a:rPr>
              <a:t>45 % de la duraci</a:t>
            </a:r>
            <a:r>
              <a:rPr b="1" i="1" lang="es-ES_tradnl" sz="1800" spc="-1" strike="noStrike">
                <a:solidFill>
                  <a:srgbClr val="0000ff"/>
                </a:solidFill>
                <a:latin typeface="Times New Roman"/>
              </a:rPr>
              <a:t>ó</a:t>
            </a:r>
            <a:r>
              <a:rPr b="1" i="1" lang="es-ES" sz="1800" spc="-1" strike="noStrike">
                <a:solidFill>
                  <a:srgbClr val="0000ff"/>
                </a:solidFill>
                <a:latin typeface="Times New Roman"/>
              </a:rPr>
              <a:t>n de un ciclo</a:t>
            </a:r>
            <a:r>
              <a:rPr b="1" i="1" lang="es-ES_tradnl" sz="1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380880" y="457200"/>
            <a:ext cx="41353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28600"/>
            <a:ext cx="51213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isten 2 coronarias derecha e izquier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 general el VI lo irriga la coronaria  izquierda y el VD la derech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La cara post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cardiaca suele irrigarlo la derecha a trav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 de la descendente posterior (dominancia derecha) ello ocurre en el 90 % de los cas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coronaria izquierda o principal es corta y se divide 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damente en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descendente anterior y circunfleja (izquierda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eccion25_a" descr=""/>
          <p:cNvPicPr/>
          <p:nvPr/>
        </p:nvPicPr>
        <p:blipFill>
          <a:blip r:embed="rId2"/>
          <a:stretch/>
        </p:blipFill>
        <p:spPr>
          <a:xfrm>
            <a:off x="0" y="533520"/>
            <a:ext cx="4127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004760" y="-8210520"/>
            <a:ext cx="544644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41680" y="-8210520"/>
            <a:ext cx="570888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004760" y="-2276640"/>
            <a:ext cx="544644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1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457200"/>
            <a:ext cx="4191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onaria der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sta coronaria irriga la aur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ula y ventr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ulo derechos,y la </a:t>
            </a: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cara posterior o diafragm</a:t>
            </a: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á</a:t>
            </a: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tic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del ventr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ulo izquierdo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u rama terminal es la </a:t>
            </a: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descendente posterior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 coronaria derecha irriga en el 51 % de los casos el n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ulo sinoauricular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 el 90 % el </a:t>
            </a: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nodo auriculoventricular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y el haz de His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arritmias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supraventriculares transitorias y</a:t>
            </a: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 bloqueos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son por ello muy frecuentes en obstrucciones de esta coronaria </a:t>
            </a: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(necrosis diafragm</a:t>
            </a: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á</a:t>
            </a: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ticas y posteriores ,ondas Q en II,III, y aVF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004760" y="5118120"/>
            <a:ext cx="5446440" cy="9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35480" y="14401800"/>
            <a:ext cx="5708520" cy="9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eccion25_c" descr=""/>
          <p:cNvPicPr/>
          <p:nvPr/>
        </p:nvPicPr>
        <p:blipFill>
          <a:blip r:embed="rId2"/>
          <a:stretch/>
        </p:blipFill>
        <p:spPr>
          <a:xfrm>
            <a:off x="0" y="1198440"/>
            <a:ext cx="525780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2T20:37:14Z</dcterms:created>
  <dc:creator>Unknown User</dc:creator>
  <dc:description/>
  <dc:language>en-US</dc:language>
  <cp:lastModifiedBy>Unknown User</cp:lastModifiedBy>
  <dcterms:modified xsi:type="dcterms:W3CDTF">2002-10-02T02:18:13Z</dcterms:modified>
  <cp:revision>30</cp:revision>
  <dc:subject/>
  <dc:title>Presentación de PowerPoint</dc:title>
</cp:coreProperties>
</file>