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4.wmf" ContentType="image/x-wmf"/>
  <Override PartName="/ppt/media/image32.wmf" ContentType="image/x-wmf"/>
  <Override PartName="/ppt/media/image12.wmf" ContentType="image/x-wmf"/>
  <Override PartName="/ppt/media/image13.wmf" ContentType="image/x-wmf"/>
  <Override PartName="/ppt/media/image28.png" ContentType="image/png"/>
  <Override PartName="/ppt/media/image31.wmf" ContentType="image/x-wmf"/>
  <Override PartName="/ppt/media/image29.wmf" ContentType="image/x-wmf"/>
  <Override PartName="/ppt/media/image9.wmf" ContentType="image/x-wmf"/>
  <Override PartName="/ppt/media/image30.wmf" ContentType="image/x-wmf"/>
  <Override PartName="/ppt/media/image33.jpeg" ContentType="image/jpeg"/>
  <Override PartName="/ppt/media/image7.wmf" ContentType="image/x-wmf"/>
  <Override PartName="/ppt/media/image37.wmf" ContentType="image/x-wmf"/>
  <Override PartName="/ppt/media/image8.wmf" ContentType="image/x-wmf"/>
  <Override PartName="/ppt/media/image38.png" ContentType="image/png"/>
  <Override PartName="/ppt/media/image39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E73-CF74-4F4F-9002-E1B6A5B4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4BE-03E3-45BB-8E0A-8EEAEF9E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8F3-A33E-4E94-994C-06BCDC91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2F9-D34A-46B6-A73B-E7979544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F9B3-70EE-4FCD-92F5-047F29DD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3F80-2AC2-49AA-907D-EA8AC602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09D3-231A-4504-8868-215F53F4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5CC4-EC6D-4332-8B73-634E50D2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6411-2BD1-4D40-8E10-D8EBFA4E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26B4-0BCC-446C-85EF-C3040C49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1F11-29ED-445B-A223-EC5A5C22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8A98-9A7A-4685-A0F3-1C46FAF9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0E14-78D9-42B3-95E7-DE2EAC86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2789-6012-4C0D-A0DF-A77DD85F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C2ED-E69A-4F74-A1BF-4D5C0A4B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BD4C-3A6E-4648-BF0E-1D69ED2C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CCBF-F88C-487C-A61A-E24AFE19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1F1-1B13-44B5-94C2-F483FA80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888-0F05-466E-BCF7-F411B130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F30-F4F0-479B-B448-397EFFFE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8794-2EC1-486A-8731-8D74E16C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AF7-22B6-4BC5-90C3-BC9E3116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607-7568-401D-882E-68522B6F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393-A573-42B1-9EB1-CFE34221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3958-9702-4677-A897-84043FC7C046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E315-52F6-48FA-B9A2-A2DFDBE9B0DE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ffffcc"/>
                </a:solidFill>
                <a:latin typeface="ComixHighlight"/>
              </a:rPr>
              <a:t>NOIA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9640" y="1627200"/>
            <a:ext cx="806472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ComixHighlight"/>
              </a:rPr>
              <a:t>MALA UTILIZACIÓN POR PARTE DOS USUARI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2592360" cy="2433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689440" y="1628640"/>
            <a:ext cx="2467080" cy="2664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843280" y="3930480"/>
            <a:ext cx="30049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ComixHighlight"/>
              </a:rPr>
              <a:t>FORMACÍÓN/ESPECIALIZ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1195560" cy="3730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588000" y="1628640"/>
            <a:ext cx="1694160" cy="4530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771640" y="1413000"/>
            <a:ext cx="3313080" cy="4895640"/>
          </a:xfrm>
          <a:prstGeom prst="rect">
            <a:avLst/>
          </a:prstGeom>
          <a:solidFill>
            <a:srgbClr val="ff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EXPERIENCIA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PROFESION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(Años de graduació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ESPECIALIZ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DEDIC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EXCLUSIV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FORM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CONTINU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0"/>
          <a:ext cx="86868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6868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4495680"/>
          <a:ext cx="6019920" cy="2165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495680"/>
                    <a:ext cx="601992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ComixHighlight"/>
              </a:rPr>
              <a:t>MOTIVOS DAS DERIVACIÓ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 rot="21029400">
            <a:off x="3693960" y="2336400"/>
            <a:ext cx="4830840" cy="4024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 rot="20442000">
            <a:off x="0" y="2276280"/>
            <a:ext cx="77914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 DERIVA POLA GRAVEDADE DO CASO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042920" y="4508640"/>
            <a:ext cx="230508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ComixHighlight"/>
              </a:rPr>
              <a:t>MOTIVOS DAS DERIVACIÓ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42920" y="692280"/>
          <a:ext cx="7048440" cy="551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92280"/>
                    <a:ext cx="7048440" cy="55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 txBox="1"/>
          <p:nvPr/>
        </p:nvSpPr>
        <p:spPr>
          <a:xfrm>
            <a:off x="5364000" y="5229360"/>
            <a:ext cx="30099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Apreciacións do personal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cc"/>
                </a:solidFill>
                <a:latin typeface="ComixHighlight"/>
              </a:rPr>
              <a:t>¿cÓMO SE DERIVA?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730600" cy="1527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042920" y="2997360"/>
            <a:ext cx="3013200" cy="1863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995640" y="2421000"/>
            <a:ext cx="40388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21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66 0.028 0.08255 0.062 0.08255 C 0.097 0.08255 0.125 0.0466 0.125 0 C 0.125 -0.0466 0.153 -0.08255 0.188 -0.08255 C 0.222 -0.08255 0.25 -0.0466 0.25 0 E">
                                      <p:cBhvr>
                                        <p:cTn id="21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21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xHighlight"/>
              </a:rPr>
              <a:t>Informe para el siguiente nivel</a:t>
            </a: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ComixHighlight"/>
              </a:rPr>
              <a:t>(Folla de Urxencia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31960" y="1600200"/>
            <a:ext cx="32893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4500720" y="1504800"/>
          <a:ext cx="4248000" cy="233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1504800"/>
                    <a:ext cx="424800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084720" y="4437000"/>
            <a:ext cx="13338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animClr clrSpc="rgb">
                                      <p:cBhvr>
                                        <p:cTn id="2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set>
                                      <p:cBhvr>
                                        <p:cTn id="2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ComixHighlight"/>
              </a:rPr>
              <a:t>Folla específica de enfermerí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ff"/>
                </a:solidFill>
                <a:latin typeface="Verdana"/>
              </a:rPr>
              <a:t>Medicación Administrad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ff"/>
                </a:solidFill>
                <a:latin typeface="Verdana"/>
              </a:rPr>
              <a:t>Comentarios de Enfermerí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ff"/>
                </a:solidFill>
                <a:latin typeface="Verdana"/>
              </a:rPr>
              <a:t>Etc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 rot="20949000">
            <a:off x="323640" y="3428640"/>
            <a:ext cx="6264000" cy="1947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ErgoeMildBlackExpanded"/>
              </a:rPr>
              <a:t>¡¡NON SOMOS 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ErgoeMildBlackExpanded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ErgoeMildBlackExpanded"/>
              </a:rPr>
              <a:t>CONVIDADOS DE PEDRA!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4382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ComixHighlight"/>
              </a:rPr>
              <a:t>Non durmimos nos loureir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631960" y="1600200"/>
            <a:ext cx="3880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xHighlight"/>
              </a:rPr>
              <a:t>Unha auténtica urxencia</a:t>
            </a:r>
            <a:r>
              <a:rPr b="0" lang="es-ES_tradnl" sz="4400" spc="-1" strike="noStrike">
                <a:solidFill>
                  <a:srgbClr val="ffffcc"/>
                </a:solidFill>
                <a:latin typeface="ComixHighlight"/>
              </a:rPr>
              <a:t>…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cc"/>
                </a:solidFill>
                <a:latin typeface="Fiorne"/>
              </a:rPr>
              <a:t>Ponte medieval de xuño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1165320"/>
            <a:ext cx="727236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omixHighlight"/>
              </a:rPr>
              <a:t>AS URXENCIA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3300"/>
                </a:solidFill>
                <a:latin typeface="BaccaratUpright"/>
              </a:rPr>
              <a:t>ANTES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59280" y="3489480"/>
            <a:ext cx="5400360" cy="3368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26920" y="2708280"/>
            <a:ext cx="4321440" cy="11523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rgoeMildBlackExpanded"/>
              </a:rPr>
              <a:t>ESTOU NO BAR TIXOL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rgoeMildBlackExpanded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ErgoeMildBlackExpanded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ErgoeMildBlackExpanded"/>
              </a:rPr>
              <a:t>O Médic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6 L 0.125 0 L 0.177 0 L 0.177 0.06924 L 0.213 0.1185 L 0.177 0.16644 L 0.177 0.23567 L 0.125 0.23567 L 0.089 0.28361 L 0.052 0.23567 L 0 0.23567 L 0 0.16644 L -0.037 0.1185 L 0 0.06924 L 0 0 Z">
                                      <p:cBhvr>
                                        <p:cTn id="3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omixHighlight"/>
              </a:rPr>
              <a:t>AS URXENCIA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BaccaratUpright"/>
              </a:rPr>
              <a:t>AGORA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64000" y="1682640"/>
            <a:ext cx="2606760" cy="2024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40384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4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ComixHighlight"/>
              </a:rPr>
              <a:t>ORGANIZACIÓN DAS URXENCI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 rot="19688400">
            <a:off x="250920" y="2421000"/>
            <a:ext cx="3809880" cy="40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lbert"/>
              </a:rPr>
              <a:t>MODELO TRADICIONAL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lbert"/>
              <a:ea typeface="Albert"/>
            </a:endParaRPr>
          </a:p>
        </p:txBody>
      </p:sp>
      <p:sp>
        <p:nvSpPr>
          <p:cNvPr id="127" name=""/>
          <p:cNvSpPr txBox="1"/>
          <p:nvPr/>
        </p:nvSpPr>
        <p:spPr>
          <a:xfrm rot="4960200">
            <a:off x="7491960" y="2380320"/>
            <a:ext cx="1576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PACS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4160880" cy="4176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 rot="5400000">
            <a:off x="7131600" y="4253760"/>
            <a:ext cx="1576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PACS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 rot="5400000">
            <a:off x="1370520" y="3461400"/>
            <a:ext cx="1576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PAC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146160" y="5406120"/>
            <a:ext cx="1576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PAC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cc"/>
                </a:solidFill>
                <a:latin typeface="ComixHighlight"/>
              </a:rPr>
              <a:t>MEDIOS MATERIAI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4038480" cy="1920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492360" y="1413000"/>
            <a:ext cx="4038840" cy="1887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716360" y="4292640"/>
            <a:ext cx="3908520" cy="2189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042920" y="1413000"/>
            <a:ext cx="1519200" cy="2189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74 0.16712 L 0.22726 0.16712 E">
                                      <p:cBhvr>
                                        <p:cTn id="8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87 E">
                                      <p:cBhvr>
                                        <p:cTn id="84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87 E">
                                      <p:cBhvr>
                                        <p:cTn id="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cc"/>
                </a:solidFill>
                <a:latin typeface="ComixHighlight"/>
              </a:rPr>
              <a:t>MEDIOS </a:t>
            </a: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0" lang="es-ES_tradnl" sz="3200" spc="-1" strike="noStrike">
                <a:solidFill>
                  <a:srgbClr val="ffffcc"/>
                </a:solidFill>
                <a:latin typeface="Impact"/>
              </a:rPr>
              <a:t>En definitiva…….</a:t>
            </a: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05120" y="1971720"/>
            <a:ext cx="1141200" cy="1446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2880000" cy="2189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258920" y="3933720"/>
            <a:ext cx="168588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148360" y="3429000"/>
            <a:ext cx="27018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66 0.028 -0.08255 0.062 -0.08255 C 0.097 -0.08255 0.125 -0.0466 0.125 0 C 0.125 0.0466 0.153 0.08255 0.188 0.08255 C 0.222 0.08255 0.25 0.0466 0.25 0 E">
                                      <p:cBhvr>
                                        <p:cTn id="10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ComixHighlight"/>
              </a:rPr>
              <a:t>SITUACION LABORAL DO PERSONAL</a:t>
            </a:r>
            <a:r>
              <a:rPr b="0" lang="es-ES_tradnl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ff66ff"/>
                </a:solidFill>
                <a:latin typeface="Impact"/>
              </a:rPr>
              <a:t>(Personal fixo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2247840"/>
            <a:ext cx="4038480" cy="3235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2879640" cy="1838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 rot="20025600">
            <a:off x="4152600" y="3715920"/>
            <a:ext cx="49910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GUARDIA INACTIV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ComixHighlight"/>
              </a:rPr>
              <a:t>SITUACIÓN LABORAL DO PERSONAL</a:t>
            </a:r>
            <a:r>
              <a:rPr b="0" lang="es-ES_tradnl" sz="4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_tradnl" sz="4000" spc="-1" strike="noStrike">
                <a:solidFill>
                  <a:srgbClr val="ffffcc"/>
                </a:solidFill>
                <a:latin typeface="Impact"/>
              </a:rPr>
              <a:t>(“Vinculados”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961080" cy="3816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 rot="10800000">
            <a:off x="5508360" y="1988640"/>
            <a:ext cx="3095640" cy="2608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 rot="20512800">
            <a:off x="5435640" y="5013360"/>
            <a:ext cx="26715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6:46Z</dcterms:created>
  <dc:creator>usuario</dc:creator>
  <dc:description/>
  <dc:language>en-US</dc:language>
  <cp:lastModifiedBy>usuario</cp:lastModifiedBy>
  <dcterms:modified xsi:type="dcterms:W3CDTF">2004-11-09T17:00:06Z</dcterms:modified>
  <cp:revision>13</cp:revision>
  <dc:subject/>
  <dc:title>AS URXENCI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