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AA34-2C3B-4188-91AE-6E30CEF25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A7C1-54AA-4110-872F-74FECD5E2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A5DC-9537-468E-B5D1-97F855E68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94EC-5FB9-4E4A-8789-05EA85F11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D2FB3-EFC3-47DF-88EC-8F20D2960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28B09-E8EB-4325-A45F-C92FC1483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6928D-E9C0-4F63-B373-AD8AFE3F8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F49C9-7ADE-4860-9988-D3532F3A1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D5B26-67FA-4968-A1AC-1839467AA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A9FD4-D65F-4A03-919E-582336028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8F46E-1F9C-4F9B-9AFF-5005986A9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5516-740C-4D84-8889-374E41AAD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53911-3997-4BE5-89C3-C1E8BC0FD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A7B6A-BF29-470C-A522-583D481F1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D9962-8329-4693-B420-2F41C2753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D3DBD-9DC3-41B6-A257-9FBF8FABB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E28D1-47DC-4883-9D85-AFCEEAC46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401D-2DC0-44EF-A737-D170A9269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4BDB-19DA-41D9-AA49-EC39D88B5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286A-131C-4739-B22B-168A6C365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4A5C-D617-474B-BA27-56B64E03B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BBB6-A5AB-4663-AFB5-1987DD5A6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67BD-A9B6-437D-BBEE-3F29954C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8750-8035-410D-9B7C-FC4288A9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CD83A-96D2-4C38-8120-DF3B9CE354C1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20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EE7E0-39DC-4793-9B9D-4739E8EF0676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72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6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edline.com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99"/>
                </a:solidFill>
                <a:latin typeface="Georgia"/>
              </a:rPr>
              <a:t>ENFERMOS  E.P.O.C. EN URGENCIAS DEL HOSPITAL EL BIERZO</a:t>
            </a:r>
            <a:endParaRPr b="0" lang="en-US" sz="32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Impact"/>
              </a:rPr>
              <a:t>Mº DEL CARMEN NAVARRO FERNANDEZ. DUE S.URGENCIA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Impact"/>
              </a:rPr>
              <a:t>CONCEPCIÓN DÍAZ FUENTE. DUE S. URGENCIA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Impact"/>
              </a:rPr>
              <a:t>ELISHABET VALCARCE RELLÁN. DUE S. URGENCIA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Impact"/>
              </a:rPr>
              <a:t>OSCAR DEL VALLE CUADRADO. DUE S.URGENCIA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32" name="medulas" descr=""/>
          <p:cNvPicPr/>
          <p:nvPr/>
        </p:nvPicPr>
        <p:blipFill>
          <a:blip r:embed="rId1"/>
          <a:stretch/>
        </p:blipFill>
        <p:spPr>
          <a:xfrm>
            <a:off x="5181480" y="2438280"/>
            <a:ext cx="38102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99"/>
                </a:solidFill>
                <a:latin typeface="Impact"/>
              </a:rPr>
              <a:t>ENFERMOS  E.P.O.C. EN EL HOSPITAL EL BIERZO</a:t>
            </a:r>
            <a:endParaRPr b="0" lang="en-US" sz="32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813200"/>
          </a:xfrm>
          <a:prstGeom prst="rect">
            <a:avLst/>
          </a:prstGeom>
          <a:solidFill>
            <a:srgbClr val="2181b7"/>
          </a:solidFill>
          <a:ln w="9360">
            <a:solidFill>
              <a:srgbClr val="ff00ff"/>
            </a:solidFill>
            <a:miter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ff00"/>
                </a:solidFill>
                <a:latin typeface="Impact"/>
              </a:rPr>
              <a:t>      </a:t>
            </a:r>
            <a:r>
              <a:rPr b="0" lang="es-ES_tradnl" sz="2400" spc="-1" strike="noStrike">
                <a:solidFill>
                  <a:srgbClr val="00ff00"/>
                </a:solidFill>
                <a:latin typeface="Impact"/>
              </a:rPr>
              <a:t>BIBLIOGRAFÍA: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4" marL="1913040" indent="-212400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GUÍA DE ACTUACIÓN EN URGENCIAS. M.J.VAZQUEZ Y J.R.CASAL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4" marL="1913040" indent="-212400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DIAGNÓSTICO DE LAS ENFERMEDADES DEL TORAX. FRASER  PARE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4" marL="1913040" indent="-212400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ENCICLOPEDIA METAS DE ENFERMERÍA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4" marL="1913040" indent="-212400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ENCICLOPEDIA MAC-GRAWHILL DE ENFERMERÍA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4" marL="1913040" indent="-212400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6666ff"/>
                </a:solidFill>
                <a:uFillTx/>
                <a:latin typeface="Impact"/>
                <a:hlinkClick r:id="rId1"/>
              </a:rPr>
              <a:t>WWW.MEDLINE.COM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4" marL="191304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ff00"/>
                </a:solidFill>
                <a:latin typeface="Impact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ff00"/>
                </a:solidFill>
                <a:latin typeface="Impact"/>
              </a:rPr>
              <a:t>AGRADECIMIENTO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4" marL="1913040" indent="-212400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AL SERVICIO DE URGENCIAS DEL HOSPITAL DEL BIERZO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4" marL="1913040" indent="-212400">
              <a:spcBef>
                <a:spcPts val="400"/>
              </a:spcBef>
              <a:buClr>
                <a:srgbClr val="ffffff"/>
              </a:buClr>
              <a:buFont typeface="Impact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AL DEPARTAMIENTO DE NEUMOLOGÍA DEL HOSPITAL DEL BIERZO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Impact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99"/>
                </a:solidFill>
                <a:latin typeface="Impact"/>
              </a:rPr>
              <a:t>ENFERMOS  E.P.O.C. EN EL HOSPITAL EL BIERZO</a:t>
            </a:r>
            <a:endParaRPr b="0" lang="en-US" sz="32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218960"/>
            <a:ext cx="777240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ff00"/>
                </a:solidFill>
                <a:latin typeface="Impact"/>
              </a:rPr>
              <a:t>1. INTRODUCCION</a:t>
            </a:r>
            <a:r>
              <a:rPr b="0" lang="es-ES_tradnl" sz="2400" spc="-1" strike="noStrike">
                <a:solidFill>
                  <a:srgbClr val="00ff00"/>
                </a:solidFill>
                <a:latin typeface="Impact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Impact"/>
              </a:rPr>
              <a:t>E.P.O.C:</a:t>
            </a:r>
            <a:r>
              <a:rPr b="0" lang="es-ES_tradnl" sz="2400" spc="-1" strike="noStrike">
                <a:solidFill>
                  <a:srgbClr val="00ff00"/>
                </a:solidFill>
                <a:latin typeface="Impact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Impact"/>
              </a:rPr>
              <a:t>CONJUNTO DE ENTIDADES ANATOMOCLÍNICAS CARACTERIZADAS POR DISMINUCIÓN DE LOS PARÁMETROS ESPIROMÉTRICOS DE FORMA CRÓNICA E IRREVERSIBLE, SIENDO EL DÉFICIT OBSTRUCTIVO, RESTRICTIVO O COMBINADO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Impact"/>
              </a:rPr>
              <a:t>E.P.O.C. REAGUDIZADO:</a:t>
            </a:r>
            <a:r>
              <a:rPr b="0" lang="es-ES_tradnl" sz="2400" spc="-1" strike="noStrike">
                <a:solidFill>
                  <a:srgbClr val="ffffff"/>
                </a:solidFill>
                <a:latin typeface="Impact"/>
              </a:rPr>
              <a:t> SITUACIÓN DE EMPEORAMIENTO AGUDO Y SOSTENIDO DEL ESTADO DEL PA CIENTE Y QUE REQUIERE UN CAMBIO EN SU  TRATAMIENTO HABITUAL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Impact"/>
              </a:rPr>
              <a:t>PUDIENDO PRESENTAR: 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Impact"/>
              </a:rPr>
              <a:t>AUMENTO DE LA DISNEA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Impact"/>
              </a:rPr>
              <a:t>AUMENTO DE LA EXPECTORACIÓN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Impact"/>
              </a:rPr>
              <a:t>EXPECTORACIÓN PURULENTA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99"/>
                </a:solidFill>
                <a:latin typeface="Impact"/>
              </a:rPr>
              <a:t>ENFERMOS  E.P.O.C. EN EL HOSPITAL EL BIERZO</a:t>
            </a:r>
            <a:endParaRPr b="0" lang="en-US" sz="32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541008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ff"/>
                </a:solidFill>
                <a:latin typeface="Impact"/>
              </a:rPr>
              <a:t>ETIOLOGIA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Impact"/>
              </a:rPr>
              <a:t>INFECCIÓN RESPIRATORIA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Impact"/>
              </a:rPr>
              <a:t>CONTAMINACIÓN AMBIENTAL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Impact"/>
              </a:rPr>
              <a:t>NEUMONIA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Impact"/>
              </a:rPr>
              <a:t>NEUMOTORAX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Impact"/>
              </a:rPr>
              <a:t>ICC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Impact"/>
              </a:rPr>
              <a:t>TRAUMATISMOS TORÁCICO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Impact"/>
              </a:rPr>
              <a:t>TEP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7" name=""/>
          <p:cNvSpPr/>
          <p:nvPr/>
        </p:nvSpPr>
        <p:spPr>
          <a:xfrm>
            <a:off x="4038480" y="1981080"/>
            <a:ext cx="2667240" cy="685800"/>
          </a:xfrm>
          <a:prstGeom prst="wedgeRoundRectCallout">
            <a:avLst>
              <a:gd name="adj1" fmla="val -39166"/>
              <a:gd name="adj2" fmla="val 112037"/>
              <a:gd name="adj3" fmla="val 16667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ff"/>
                </a:solidFill>
                <a:latin typeface="Times New Roman"/>
              </a:rPr>
              <a:t>CAUSAS RESPIRATORI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743200" y="4495680"/>
            <a:ext cx="3276720" cy="914400"/>
          </a:xfrm>
          <a:prstGeom prst="cloudCallout">
            <a:avLst>
              <a:gd name="adj1" fmla="val -69620"/>
              <a:gd name="adj2" fmla="val 76736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ff"/>
                </a:solidFill>
                <a:latin typeface="Times New Roman"/>
              </a:rPr>
              <a:t>CAUSAS NO RESPIRATORI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477120" y="2819520"/>
            <a:ext cx="2361960" cy="3809880"/>
          </a:xfrm>
          <a:prstGeom prst="rect">
            <a:avLst/>
          </a:prstGeom>
          <a:ln w="0">
            <a:noFill/>
          </a:ln>
        </p:spPr>
      </p:pic>
      <p:pic>
        <p:nvPicPr>
          <p:cNvPr id="140" name="pulmones1" descr=""/>
          <p:cNvPicPr/>
          <p:nvPr/>
        </p:nvPicPr>
        <p:blipFill>
          <a:blip r:embed="rId2"/>
          <a:stretch/>
        </p:blipFill>
        <p:spPr>
          <a:xfrm>
            <a:off x="6477120" y="2819520"/>
            <a:ext cx="24382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99"/>
                </a:solidFill>
                <a:latin typeface="Impact"/>
              </a:rPr>
              <a:t>ENFERMOS  E.P.O.C. EN EL HOSPITAL EL BIERZO</a:t>
            </a:r>
            <a:endParaRPr b="0" lang="en-US" sz="32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94920" y="1219320"/>
            <a:ext cx="76964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ff00"/>
                </a:solidFill>
                <a:latin typeface="Impact"/>
              </a:rPr>
              <a:t>2. MÉTODO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Impact"/>
              </a:rPr>
              <a:t>ANÁLISIS SOBRE UN TOTAL DE 84 PACIENTES EN UN PERIODO DE DOS MESES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Impact"/>
              </a:rPr>
              <a:t>MEDIANTE UN MÉTODO DESCRIPTIVO BASADO EN UN TEST DE RESPUESTAS MÚLTIPLES Y UNA SERIE DE PREGUNTAS ABIERTAS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Impact"/>
              </a:rPr>
              <a:t>DATOS OBJETIVOS RECOGIDOS DE HISTORIAS CLÍNICAS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Impact"/>
              </a:rPr>
              <a:t>RECOGIDA Y PRESENTACIÓN DE DATOS EN WORD Y EXCEL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Impact"/>
              </a:rPr>
              <a:t>TRATAMIENTO ESTADÍSTICO PROGRAMA SPPSSV.11.0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Impact"/>
              </a:rPr>
              <a:t>ANÁLISIS DE DATOS MEDIANTE ESTADÍSTICA DESCRIPTIVA, USANDO FRECUENCIAS ABSOLUTAS Y RELATIVAS EN LAS VARIABLES SEXO,EDAD , TRANSPORTE, ETC..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99"/>
                </a:solidFill>
                <a:latin typeface="Impact"/>
              </a:rPr>
              <a:t>ENFERMOS  E.P.O.C. EN EL HOSPITAL EL BIERZO</a:t>
            </a:r>
            <a:endParaRPr b="0" lang="en-US" sz="32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218960"/>
            <a:ext cx="54100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ff00"/>
                </a:solidFill>
                <a:latin typeface="Impact"/>
              </a:rPr>
              <a:t>3. OBJETIVOS DEL ESTUDIO</a:t>
            </a: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32640" indent="-332640"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Impact"/>
              </a:rPr>
              <a:t>CONOCER LA MEDIA DE EDAD Y EL SEXO DE LOS ENFERMOS DE EPOC QUE NOS VISITAN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32640" indent="-332640"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Impact"/>
              </a:rPr>
              <a:t>CONOCER EL TIPO DE PRUEBAS DIAGNOSTICAS QUE SE REALIZAN A ESTOS ENFERMOS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32640" indent="-332640"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Impact"/>
              </a:rPr>
              <a:t>CONOCER EL MEDIO DE TRANSPORTE UTILIZADO PARA LLEGAR AL HOSPITAL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45" name=""/>
          <p:cNvSpPr/>
          <p:nvPr/>
        </p:nvSpPr>
        <p:spPr>
          <a:xfrm>
            <a:off x="7086600" y="2057400"/>
            <a:ext cx="1752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ambulancia1" descr=""/>
          <p:cNvPicPr/>
          <p:nvPr/>
        </p:nvPicPr>
        <p:blipFill>
          <a:blip r:embed="rId1"/>
          <a:stretch/>
        </p:blipFill>
        <p:spPr>
          <a:xfrm>
            <a:off x="6705720" y="2438280"/>
            <a:ext cx="22860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99"/>
                </a:solidFill>
                <a:latin typeface="Impact"/>
              </a:rPr>
              <a:t>ENFERMOS  E.P.O.C. EN EL HOSPITAL EL BIERZO</a:t>
            </a:r>
            <a:endParaRPr b="0" lang="en-US" sz="32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472428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ff00"/>
                </a:solidFill>
                <a:latin typeface="Impact"/>
              </a:rPr>
              <a:t>3. OBJETIVOS DEL ESTUDIO II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Impact"/>
              </a:rPr>
              <a:t>CONOCER EL TIPO DE ASISTENCIA RECIBIDA ANTES DE LLEGAR AL HOSPITAL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Impact"/>
              </a:rPr>
              <a:t>VER LA POSIBLE RELACIÓN ENTRE E..P.O.C Y PROFESIÓN EJERCIDA 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Impact"/>
              </a:rPr>
              <a:t>OBSERVAR EN EL PACIENTE LA PERCEPCIÓN DEL BUEN USO O MAL USO DE INHALADORES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49" name="inhaladores1" descr=""/>
          <p:cNvPicPr/>
          <p:nvPr/>
        </p:nvPicPr>
        <p:blipFill>
          <a:blip r:embed="rId1"/>
          <a:stretch/>
        </p:blipFill>
        <p:spPr>
          <a:xfrm>
            <a:off x="6553080" y="4343400"/>
            <a:ext cx="2133720" cy="1816200"/>
          </a:xfrm>
          <a:prstGeom prst="rect">
            <a:avLst/>
          </a:prstGeom>
          <a:ln w="0">
            <a:noFill/>
          </a:ln>
        </p:spPr>
      </p:pic>
      <p:pic>
        <p:nvPicPr>
          <p:cNvPr id="150" name="inhaladores%20dibu" descr=""/>
          <p:cNvPicPr/>
          <p:nvPr/>
        </p:nvPicPr>
        <p:blipFill>
          <a:blip r:embed="rId2"/>
          <a:stretch/>
        </p:blipFill>
        <p:spPr>
          <a:xfrm>
            <a:off x="6095880" y="2362320"/>
            <a:ext cx="236232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99"/>
                </a:solidFill>
                <a:latin typeface="Impact"/>
              </a:rPr>
              <a:t>ENFERMOS  E.P.O.C. EN EL HOSPITAL EL BIERZO</a:t>
            </a:r>
            <a:endParaRPr b="0" lang="en-US" sz="32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8960" y="1219320"/>
            <a:ext cx="61722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ff00"/>
                </a:solidFill>
                <a:latin typeface="Impact"/>
              </a:rPr>
              <a:t>4. </a:t>
            </a: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s-ES_tradnl" sz="2800" spc="-1" strike="noStrike">
                <a:solidFill>
                  <a:srgbClr val="00ff00"/>
                </a:solidFill>
                <a:latin typeface="Impact"/>
              </a:rPr>
              <a:t>RESULTADOS: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Impact"/>
              </a:rPr>
              <a:t>EDAD : 83.9 % ENTRE 65-85 AÑOS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Impact"/>
              </a:rPr>
              <a:t>SEXO: 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3" marL="1472040" indent="-210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Impac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Impact"/>
              </a:rPr>
              <a:t>83.9% HOMBRE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3" marL="1472040" indent="-210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Impac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Impact"/>
              </a:rPr>
              <a:t>16.1 % MUJERE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Impact"/>
              </a:rPr>
              <a:t>PRUEBAS  COMPLEMENTARIAS: 100 % ANALÍTICA SANGRE, GAB, EKG Y RX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Impact"/>
              </a:rPr>
              <a:t>MEDIO TRANSPORTE:</a:t>
            </a:r>
            <a:r>
              <a:rPr b="0" lang="es-ES" sz="24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Impact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3" marL="1472040" indent="-210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Impac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Impact"/>
              </a:rPr>
              <a:t>35.9% AMBULANCIA CONVENCIONAL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3" marL="1472040" indent="-210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Impac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Impact"/>
              </a:rPr>
              <a:t>1.2 % AMBULANCIA MEDICALIZADA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3" marL="1472040" indent="-210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Impac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Impact"/>
              </a:rPr>
              <a:t>53.9 % otros (taxi coche propio..)</a:t>
            </a:r>
            <a:r>
              <a:rPr b="0" lang="es-ES" sz="2400" spc="-1" strike="noStrike">
                <a:solidFill>
                  <a:srgbClr val="ffffff"/>
                </a:solidFill>
                <a:latin typeface="Impact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53" name="ambudibu" descr=""/>
          <p:cNvPicPr/>
          <p:nvPr/>
        </p:nvPicPr>
        <p:blipFill>
          <a:blip r:embed="rId1"/>
          <a:stretch/>
        </p:blipFill>
        <p:spPr>
          <a:xfrm>
            <a:off x="7391520" y="4648320"/>
            <a:ext cx="144756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99"/>
                </a:solidFill>
                <a:latin typeface="Impact"/>
              </a:rPr>
              <a:t>ENFERMOS  E.P.O.C. EN EL HOSPITAL EL BIERZO</a:t>
            </a:r>
            <a:endParaRPr b="0" lang="en-US" sz="32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18960" y="1066320"/>
            <a:ext cx="79246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ff00"/>
                </a:solidFill>
                <a:latin typeface="Impact"/>
              </a:rPr>
              <a:t>4. </a:t>
            </a: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s-ES_tradnl" sz="3200" spc="-1" strike="noStrike">
                <a:solidFill>
                  <a:srgbClr val="00ff00"/>
                </a:solidFill>
                <a:latin typeface="Impact"/>
              </a:rPr>
              <a:t>RESULTADOS II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Impact"/>
              </a:rPr>
              <a:t>ASISTENCIA PREVIA: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3" marL="1504080" indent="-214560">
              <a:spcBef>
                <a:spcPts val="601"/>
              </a:spcBef>
              <a:buClr>
                <a:srgbClr val="ffffff"/>
              </a:buClr>
              <a:buFont typeface="Impac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Impact"/>
              </a:rPr>
              <a:t>43.2%  E.A.P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3" marL="1504080" indent="-214560">
              <a:spcBef>
                <a:spcPts val="601"/>
              </a:spcBef>
              <a:buClr>
                <a:srgbClr val="ffffff"/>
              </a:buClr>
              <a:buFont typeface="Impac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Impact"/>
              </a:rPr>
              <a:t>2.5 %  112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3" marL="1504080" indent="-214560">
              <a:spcBef>
                <a:spcPts val="601"/>
              </a:spcBef>
              <a:buClr>
                <a:srgbClr val="ffffff"/>
              </a:buClr>
              <a:buFont typeface="Impac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Impact"/>
              </a:rPr>
              <a:t>54.3 % sin asistencia previa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22200" indent="-322200"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Impact"/>
              </a:rPr>
              <a:t>PROFESIÓN: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3" marL="1504080" indent="-214560">
              <a:spcBef>
                <a:spcPts val="601"/>
              </a:spcBef>
              <a:buClr>
                <a:srgbClr val="ffffff"/>
              </a:buClr>
              <a:buFont typeface="Impac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Impact"/>
              </a:rPr>
              <a:t>56.1 % minería carbón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3" marL="1504080" indent="-214560">
              <a:spcBef>
                <a:spcPts val="601"/>
              </a:spcBef>
              <a:buClr>
                <a:srgbClr val="ffffff"/>
              </a:buClr>
              <a:buFont typeface="Impac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Impact"/>
              </a:rPr>
              <a:t>19.4 % relacionada con la emisión de polvo (canteras carpinterías, panaderías e industrias )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3" marL="1504080" indent="-214560">
              <a:spcBef>
                <a:spcPts val="601"/>
              </a:spcBef>
              <a:buClr>
                <a:srgbClr val="ffffff"/>
              </a:buClr>
              <a:buFont typeface="Impac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Impact"/>
              </a:rPr>
              <a:t>24.5 % OTROS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22200" indent="-322200"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Impact"/>
              </a:rPr>
              <a:t>USO DE INHALADORES: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3" marL="1504080" indent="-214560">
              <a:spcBef>
                <a:spcPts val="601"/>
              </a:spcBef>
              <a:buClr>
                <a:srgbClr val="ffffff"/>
              </a:buClr>
              <a:buFont typeface="Impac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Impact"/>
              </a:rPr>
              <a:t>67.9 % BUENA PERCEPCIÓN POR EL PACIENTE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56" name="mina" descr=""/>
          <p:cNvPicPr/>
          <p:nvPr/>
        </p:nvPicPr>
        <p:blipFill>
          <a:blip r:embed="rId1"/>
          <a:stretch/>
        </p:blipFill>
        <p:spPr>
          <a:xfrm>
            <a:off x="6477120" y="2133720"/>
            <a:ext cx="24382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99"/>
                </a:solidFill>
                <a:latin typeface="Impact"/>
              </a:rPr>
              <a:t>ENFERMOS  E.P.O.C. EN EL HOSPITAL EL BIERZO</a:t>
            </a:r>
            <a:endParaRPr b="0" lang="en-US" sz="32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8960" y="1142640"/>
            <a:ext cx="7924680" cy="571500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ff00"/>
                </a:solidFill>
                <a:latin typeface="Impact"/>
              </a:rPr>
              <a:t>5. CONCLUSIONES</a:t>
            </a:r>
            <a:r>
              <a:rPr b="0" lang="es-ES_tradnl" sz="2000" spc="-1" strike="noStrike">
                <a:solidFill>
                  <a:srgbClr val="00ff00"/>
                </a:solidFill>
                <a:latin typeface="Impact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13160" indent="-274320">
              <a:spcBef>
                <a:spcPts val="60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Impact"/>
              </a:rPr>
              <a:t>LA MAYORÍA DE NUESTROS ENFERMOS DE EPOC ESTÁN EN LA 2ª  y 3ª  EDAD Y SON HOMBRES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13160" indent="-274320">
              <a:spcBef>
                <a:spcPts val="60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Impact"/>
              </a:rPr>
              <a:t>SUS PROFESIONES ESTÁN RELACIONADAS CON LA EMISIÓN DE POLVO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13160" indent="-274320">
              <a:spcBef>
                <a:spcPts val="60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Impact"/>
              </a:rPr>
              <a:t>UTILIZAN SUS PROPIOS MEDIOS DE TRANSPORTE PARA LLEGAR AL  SERVICIO DE URGENCIAS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13160" indent="-274320">
              <a:spcBef>
                <a:spcPts val="60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Impact"/>
              </a:rPr>
              <a:t>LA MAYORÍA RECIBE ASISTENCIA  DEL E.A.P  Y DE LA FAMILIA   ANTES DE LA LLEGADA AL HOSPITAL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13160" indent="-274320">
              <a:spcBef>
                <a:spcPts val="60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Impact"/>
              </a:rPr>
              <a:t>SEGÙN NUESTRO ESTUDIO PODRÍAMOS REALIZAR UNA GUÍA DE ACTUACIÓN DE ENFERMERÍA  ANTE LA LLEGADA DEL ENFERMO DE EPOC.</a:t>
            </a:r>
            <a:r>
              <a:rPr b="0" lang="es-ES_tradnl" sz="24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Impact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4T08:55:57Z</dcterms:created>
  <dc:creator>Usuario</dc:creator>
  <dc:description/>
  <dc:language>en-US</dc:language>
  <cp:lastModifiedBy>dotefer</cp:lastModifiedBy>
  <dcterms:modified xsi:type="dcterms:W3CDTF">2004-11-08T08:31:09Z</dcterms:modified>
  <cp:revision>15</cp:revision>
  <dc:subject/>
  <dc:title>ENFERMOS  E.P.O.C. EN EL      HOSPITAL EL BIERZO</dc:title>
</cp:coreProperties>
</file>