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4DC8-7A1A-43B7-BEB1-78F9C2547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BEDD-2A73-48B8-904D-184FC6A3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7808-7CED-4DBD-81B2-2CE7F4512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1A0C-D24B-4151-8E36-F670380C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B1BF-D277-435D-AD6B-85941573A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3D33-DEBC-4753-B704-9EF2C25A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6628-2C79-4A4F-81D2-914E0A87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3554-65D9-4250-8F6A-7FAF5395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2189-CB89-463B-941D-0880021D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8388-EDB3-49F8-842B-1212B090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246E-D383-4B21-A3AE-3D048675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9AC3-DEA5-4333-A5AD-77673812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BB50-8FDA-4330-B116-25F4843B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7A74-D44E-47B2-A920-29E28DED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F70B-8091-465A-8782-D33D07E6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82C8-D694-466E-BA63-610CD9A87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C136-4721-4040-86BD-8F4DB38BF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54B9-AEDD-405C-9686-0AD951E5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6C74-97F7-437A-9A2B-6D7E2B54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75CD-39B5-4D2E-9B6E-A43D261C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2A1D-040C-4830-BCB0-BEEA163E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F0DE-FFF7-409D-B10D-B40E8B0A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FA0A-7559-41F9-9E11-67F9F0E9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50CC-50A8-4DFC-94B0-A2CBF1EB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7546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14A5-1187-45D1-9178-72E6B3730C1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7546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9874-DFDB-4E80-8CEA-58CFFFD0C9C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DAPTACION DE LA ESCALA CANADIENSE DE TRIAJE AL SERVICIO DE URGENCIAS DEL HOSPITAL UNIVERSITARIO INSULAR DE GRAN CAN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Black"/>
              </a:rPr>
              <a:t>HOJA DE REGIS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Black"/>
              </a:rPr>
              <a:t>DESARROLLO DE LA ACTIVIDAD DE TRIAJE ESTRUCTU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Black"/>
              </a:rPr>
              <a:t>DEFINI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concepto hace referencia a la disponibilidad de una escala de clasificació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alida, útil y reproduc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 de una estructura física, profesional y tecnológica en los servicios de urgencias que permitan la realizar la clasificación de los pacientes en base a su grado de urgencias según u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odelo de calidad evaluable y continuamente mejor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Black"/>
              </a:rPr>
              <a:t>HISTORIA DEL TRIAJE EN NUESTRO HOSPI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198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- Comienza la recepción de pacientes por parte de personal diplomado en enfermería, siguiendo un modelo de cuatro nive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199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- Se crea hoja especifica para la recogida de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2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- Se incorpora un segundo DUE para la asistencia de enfermos de nivel III y IV en las consultas de recep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200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- Se incorpora un sistema de cinco niveles siguiendo el MODELO CANADIEN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s-ES" sz="3200" spc="-1" strike="noStrike">
                <a:solidFill>
                  <a:srgbClr val="000000"/>
                </a:solidFill>
                <a:latin typeface="Arial Black"/>
              </a:rPr>
              <a:t>PROTOCOLO DE FUNCIONAMIENTO DEL SERVICIO DE URGENCIAS DEL HOSPITAL INSULAR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ASE I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ención inmedi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ASE II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ención urg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ASE III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ención semiurg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ASE IV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ención no urg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Black"/>
              </a:rPr>
              <a:t>ADAPTACIÓN DE LA ESCALA CANADI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SA DE TRABAJO INTERDISCIPLIN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Méd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Enferme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Black"/>
              </a:rPr>
              <a:t>SISTEMA DE CLASIFICACIÓN DE PACIENTES (TRIAJE ESTRUCTURADO) EN EL SERVICIO DE URG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VEL I: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cit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Riesgo vital inmedi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VEL II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Emer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estabilidad fisio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VEL III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Urg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Riesgo vital pot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VEL IV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-Potencialmente se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VEL V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Menos urge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No urg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Black"/>
              </a:rPr>
              <a:t>PROFESIONALES DEL TRI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Sociedad Española de Enfermería de Urgencias, recomienda y propone que la actividad de recepción, acogida y clasificación (R.A.C) del paciente en un servicio de urgencia es propia de los diplomados de enfermería por su calificación profes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Black"/>
              </a:rPr>
              <a:t>PROFESIONALES DEL TRI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esionales con experiencia objetiv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a 3 profesionales por cada grupo de traba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o piloto durante dos semanas aproximada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upo formador de formad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Black"/>
              </a:rPr>
              <a:t>INDICADORES DE CALIDAD EN EL TRIAJE ESTRUCTU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tiempo desde la llegada del paciente al servicio hasta el inicio del triaj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tiempo de duración del triaj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control de tiempos desde el triaje hasta el inicio de la aten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Índice de pacientes perdidos sin ser valorados por el méd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20:00:16Z</dcterms:created>
  <dc:creator>Mary</dc:creator>
  <dc:description/>
  <dc:language>en-US</dc:language>
  <cp:lastModifiedBy>Agustín Prieto</cp:lastModifiedBy>
  <dcterms:modified xsi:type="dcterms:W3CDTF">2004-12-07T14:27:35Z</dcterms:modified>
  <cp:revision>1</cp:revision>
  <dc:subject/>
  <dc:title>        ADAPTACION DE LA ESCALA CANADIENSE DE TRIAJE AL SERVICIO DE URGENCIAS DEL HOSPITAL UNIVERSITARIO INSULAR DE GRAN CANARIA</dc:title>
</cp:coreProperties>
</file>