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TIGO.WAV" ContentType="audio/x-wav"/>
  <Override PartName="/ppt/media/image1.wmf" ContentType="image/x-wmf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3BA9F-F065-4667-A53D-D441437C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3873-74EB-4642-BABF-7C5BEF24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59B-F113-4ED1-8AF9-876F47C23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70BF-6BCA-45B2-9AD9-D0160FB6F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D375-E12C-490F-BA4A-7B45D683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2DBB-4F78-49CF-A87B-FBD2BA29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36BC-A18B-46F8-819C-2322A32F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51DD-1066-4C2F-BB32-5CB98A9E7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DE5-9ECC-4234-A758-B0E4BCF3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AAFE-AE54-46E3-8E07-A65639E01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06AC-1106-4448-9EE4-C896DD7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FCDB-7969-4E42-9EB7-47E379C4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E54D7-0140-4E38-9491-D4BD79D197F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LATIGO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LATIGO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II CURSO DE VENTILACION MECANIC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FISIOTERAPIA  RESPIRATO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FISIOTERAPIA RESPIRATORIA POSTCIRUGI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33"/>
                </a:solidFill>
                <a:latin typeface="Times New Roman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r al pac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tener ventilación adecu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r a eliminar secrecion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mentar expansión del tejido pulmo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r circulación en MMII y MM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ir la ansie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OSTOPERATORIO                  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RIMER DI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Times New Roman"/>
              </a:rPr>
              <a:t>CON VENTILACION MECANICA: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r en la espi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OSTCIRUGIA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RIMER DI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lvl="4" marL="1851480" indent="-205560">
              <a:spcBef>
                <a:spcPts val="499"/>
              </a:spcBef>
              <a:buClr>
                <a:srgbClr val="8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800000"/>
                </a:solidFill>
                <a:latin typeface="Times New Roman"/>
              </a:rPr>
              <a:t>SIN VENTILACION MECANIC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ovilización si proc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s respiratorio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iraciones profund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s asistida-volunt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iraciones diafragmáticas,si proce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pirometría incentiva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s espirato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RESULTAD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849240" y="1546200"/>
          <a:ext cx="761040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9240" y="1546200"/>
                    <a:ext cx="76104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LATIGO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PATOLOGIA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89040" y="1981080"/>
          <a:ext cx="7745400" cy="409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1981080"/>
                    <a:ext cx="774540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  <p:sndAc>
      <p:stSnd>
        <p:snd r:embed="rId3" name="LATIGO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EFINICION: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junto de técnicas terapéuticas utilizadas en medicina y basadas en el buen conocimiento del mecanismo de la respiración y de la función cardiovascular adaptada a las particularidades patológicas de cada pers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evenir complicaciones respiratorias y cardiovascular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jorar la función pulmo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celerar la recuperación funcio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porcionar bienestar y alivio en casos muy seve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BENEFICI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alece el corazón y aumenta su resistenc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conomiza las funciones vi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el flujo veno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jora la capacidad para el ejerc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minuye la ansiedad del paci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EJERCICIOS  RESPIRATORIO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espiración diafragmát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s intercos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s para potenciar la espi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jercicios para potenciar la inspi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s asistid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renaje post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lapp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RESPIRACION</a:t>
            </a: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IAFRAGMATICA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IEMPO: 1 minuto-descanso 2 minutos-durante 10 minutos- 4 veces al d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VENTAJ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 movilizan las bases pulmon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tra un 65% de la respiración sin esfuerz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33"/>
                </a:solidFill>
                <a:latin typeface="Times New Roman"/>
              </a:rPr>
              <a:t>No utilizar cuando el enfermo está disne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DRENAJE POSTURAL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INDICACIONE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ecreciones abundantes y visco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Tos inefec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bilidad músculos respirator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ronquiectasias,Epoc,Fibrosis quística, Neumon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olapso de un segmento pulmon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DRENAJE POSTURAL</a:t>
            </a:r>
            <a:br>
              <a:rPr sz="4400"/>
            </a:b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NTRAINDICACIONE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Insuficiencia respiratoria gra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allo respiratorio,broncoespasmos,status asmático,cor pulmonare,enfise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iper-Hipo 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irugía abdom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rocesos cardíacos: IAM, arritmi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ema cerebral,Cirugía craneal (&gt;PI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33"/>
                </a:solidFill>
                <a:latin typeface="Times New Roman"/>
              </a:rPr>
              <a:t>CLAPPING  </a:t>
            </a:r>
            <a:r>
              <a:rPr b="0" lang="en-US" sz="4400" spc="-1" strike="noStrike">
                <a:solidFill>
                  <a:srgbClr val="ff0033"/>
                </a:solidFill>
                <a:latin typeface="Times New Roman"/>
              </a:rPr>
              <a:t>CONTRAINDICACIONES</a:t>
            </a:r>
            <a:endParaRPr b="0" lang="en-US" sz="4400" spc="-1" strike="noStrike">
              <a:solidFill>
                <a:srgbClr val="9999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dema agudo de pulm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bcesos pulmon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rrame pleur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racturas cost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  <p:sndAc>
      <p:stSnd>
        <p:snd r:embed="rId1" name="LATIGO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JFK</dc:creator>
  <dc:description/>
  <dc:language>en-US</dc:language>
  <cp:lastModifiedBy>Jose Manuel Coton Garcia</cp:lastModifiedBy>
  <cp:lastPrinted>1999-01-28T19:23:30Z</cp:lastPrinted>
  <dcterms:modified xsi:type="dcterms:W3CDTF">2000-01-20T17:00:18Z</dcterms:modified>
  <cp:revision>7</cp:revision>
  <dc:subject/>
  <dc:title>Sin título de diapositiva</dc:title>
</cp:coreProperties>
</file>