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504-D211-4D03-8301-6ED11336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CF3-5C05-4624-B8DD-4CC2F787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EEAAC-458C-47FB-B159-7DF6B82B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2E3DC-2F7C-43B5-8E33-FB5A3FFF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BCD1A-2B5A-4861-B48D-3710CBED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E9A0F-0FB0-4CDD-BB87-9CA8AB2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14816-A8F6-454B-A849-02314A5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7BB4E-8F30-4034-A383-8870BE0A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02A1E-3D31-4E7C-A50B-9E484179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AF8AD-3A19-44C2-A61A-D631D2B6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8F357-DCDE-410B-B65D-9E8C46A2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620E6-D23F-4F40-85E1-E3CA2F5C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8D7-0DB4-497C-8668-AA4F0A8B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C8EBF-B836-4FA8-AC9B-1EBD72CC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CB9E9-3BDF-4E7D-92B7-04ECCD91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F9680-C772-4201-A8E4-B4FA01A9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CAF99-C8DA-43F9-8A73-43175ADE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42FB8-EE27-4F93-95DA-1E52B37C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C1458-BF1D-4A3E-8426-E3DE4929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40D52-9CAD-4EA5-812C-5CADD962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55602-748F-4080-9F58-62983F8C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85BB7-40CD-475A-92DF-185EE550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4AD69-E352-464D-9FAD-AB933283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8F1-764C-4A1E-8607-1C17FCF3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715F2-2872-48C3-BAD5-97B03ACB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592B53-833C-45C2-A960-95942DEA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6F43F5-A3BB-4933-91B3-BFB78795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C839D0-650B-4DCB-B179-50BEA36C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83163E-1683-48F9-B72F-232A1A01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0A293C-D567-453E-9614-FD330266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F35857-7125-4848-9101-CE27C1E2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A6452D-0FF3-4EC8-8080-569F6181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8775CA-5C8F-4F5C-B163-BC546B36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CDE453-868E-4D5A-8190-0DC6935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48D3-4D10-47B9-A920-1644222F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5365E5-E389-4773-9DF6-09EE6753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6799A7-EECE-46B4-BE23-548A0B6D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91F98F-8C79-479A-9948-7D94C7E4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E248B-D15B-4133-9BFA-A002AAA1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92B54-FA0D-4788-8705-93E99B9E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43732-50D9-4998-A48B-091D6782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98561-2737-486F-B490-6C34531E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5650F-737F-4340-9F7E-30F554D5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855A2-B606-4BD0-B4D4-C1F30D96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6B8D9-A37F-46FD-9F68-7AA340E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38DC-F70D-4760-8D99-C078EB62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EB5AA-FC5B-4BBA-B307-AD70CEBF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92164-9961-406D-B2B1-F63CD42A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DB17D-38AA-42A0-A8F3-E1983AA1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1A1D5-B7F7-4BF6-9855-C1A4B571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46A74-DB9F-4C42-A10A-000FD166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F7A8D-5C0F-4BE8-AAD1-9BC76AE2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9F01E-D7DD-41EE-AF73-A72AA6EE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BC0EA-567A-4ED6-90C9-68C00644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F0FFA-9DFC-4AB1-9519-5C4CEC8B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5F83E-7A63-4131-A769-85BD92BE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47AC-00BB-44B9-B235-00D81084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38B42-5789-4143-82AC-C4C1F3CE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A2F79-6FE2-4DA4-A574-C910A43C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6E8D5-B34D-4FB9-A83F-3B4FFE12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D0ED3-C454-4D35-8D28-21706FEA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4AB4B-5E90-44C7-82B8-51672983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62553-11EC-4A4E-BE26-5C773C76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B4D12-DF93-40FA-94DA-8509AABF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98B36-6A56-472B-9452-BD46440B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CC81F-75DC-4D97-AA16-AD76C88C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F6A6A-9D8E-46E6-8EE4-F6C48AC7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DCB6-7844-4BB4-BC9F-47B9CAA0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166AD-52F6-46E5-ABA1-97BE1CF5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A55AD-6F25-452E-8DC3-3AAF0584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CCE4A-40FB-4A0B-9475-E04BCB13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B4F73-8CF0-4F09-95F8-508DA12C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84A9E-6698-434E-BD0B-EB29ED62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90C4A-09E1-441E-B45E-0713D03F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57E3E-E577-4994-8005-C198D8D0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63A04-F783-44B6-B611-F17D8EB4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203C0-6DFA-4CC3-A373-0A2249C1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C26E27-EF48-48E6-8248-E152D02A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E413-504A-465F-819E-8358AF66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949203-F459-43E4-B938-10BFC24C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147E50-08B4-4B6B-8517-12E8C2D7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F6A4E6-72FD-4AB9-BCE8-DEF37AC3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8041ED-CCFD-4A50-96B2-4C5BB918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0DA0C9-64CA-4028-8125-EA5F6C6C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616DFF-BB02-400B-8FCD-0D2506D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4F82A5-28F6-4B1D-92D9-A2C7EE09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CDF2B7-5750-46A8-984F-0B654BD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049485-F981-4F2E-BC12-B9FF1002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4A3BEC-6E14-48CF-B723-926B9D81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A351-E065-4548-A3C8-A3EFAF40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152C35-CC94-472E-812C-E0913040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5E5BF2-F324-4FC7-B8E2-29932E70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61674D-B189-4491-897D-E50F92E3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5E2355-0651-4783-9327-E3675818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3CA4A1-8142-492A-83D2-CBE57DC8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71591A-0CC5-4280-BC85-49334FCF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D1466B-B6A9-4560-B670-EC754225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D3A654-BFA8-4420-B9DC-86F0BFAE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4E7B83-721C-4579-8918-E2A9CE06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E18AA4-19B8-4527-99AB-92F8A967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9101-4A72-4B70-8F6E-5E0F8875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E47469-02BB-4565-86EF-69C9E959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23DC1B-F103-4F95-A6F3-1044AA04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C652B2-2502-440A-931B-ED94E405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EC3879-15E8-4B79-8BD1-20CD5D47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120C8-7A10-4C79-9735-8EE45175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735598-A093-475A-B620-BF94C07F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63673-A4F5-4C53-B5BC-AC16EE2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C03ED-A1AD-4C89-AB8F-EDD6F4A1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A373CD-FD1E-4869-8A05-02DDC9F7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A630C-1AF6-443D-8C8C-D6F2EB9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BF0-6F09-486C-8D21-EA62B2E0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CAEA-2E93-4409-AE52-6449167F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0F642F-7564-4B74-86D5-4269F8C0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CD472-9206-44F4-8BF4-A0F8C96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4EECA-1337-4A68-BC7F-C9C23059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0FAEC2-B6EE-4D53-8600-36D5296E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7E53E-58D9-45C0-9D2C-40A2CB14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7D58-BE22-49E9-BFD0-A9FCB22A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FFF0-4C39-4436-BDC3-6E6709E9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455B-67A2-490F-8303-56F95105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8D43-A867-4AB1-96FB-243E85A6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90C9-1BFE-477E-A0DE-C4B4B1C3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D3E4-78DE-404C-B23E-94606892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20B0-B20A-4D8A-A084-06742008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9299-A6CC-4E43-B4F9-353CA83E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D317-265D-42FE-9669-FCCF5BE8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819-BFF6-43FA-A46B-ACF40632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76E4-4313-42BE-88D3-02B89240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2A10-A100-4A76-8DC8-E6AED255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8801-6DE8-4C4F-A067-869B359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DDBCE-5B9B-4AFB-91CE-C0E94C1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0AA5-0467-4EB4-A9F0-9C01E05F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F94C-3ADA-469E-AE26-E9882C70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8B38-2183-4C10-A0F7-43C93FB3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5A4DF-1A0A-4E41-AE1F-BE147D7A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66A82-19B5-4C22-BDE5-C923C647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9E61-BC4D-42AA-AD8C-D2B48F8E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6AA-D402-43A4-A2B1-505CA24B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67620-7544-46D7-8ED0-173E5E50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1AEE-73CB-476D-835F-29CBB90B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110D-9816-45CB-8557-898971E1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957D7-43D5-46E4-90D2-6577236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8CF6-34E8-43A3-978A-1F9D6DA8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CB6B-E354-4037-9787-B52A41D2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7B7F-B0D6-4833-9990-9ACE818B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3749-7906-4488-AC3B-EB6BA2AD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99F8-F471-4B81-AFCE-3411978E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9B38D-73DE-4022-A01D-F0FBAABE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66A-A09E-4C0A-9338-7EB7D124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F6A1C-B057-4411-A405-984E4316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BCCD3-125B-465D-86E3-24B3A79D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B00DB-4D89-4BA4-A1C7-6DBFF97F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1FFFE-ECB6-41E9-92DA-79A8971E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E3A91-83DF-4C46-92A5-6ACE83DA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D7182-33A2-4264-A945-2AC7B7B2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0FA94-D3CB-4726-AD2D-E8E6F43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F9269-5B72-4352-B8A8-CD2C7908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09877-8402-443A-A323-817947FC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8F50D-2009-4FBB-AFEC-1D5536D4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0A2-F400-423C-BB42-759CF7F2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A6DDA-258D-4ACC-A0E4-E395C571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BFB70-4D64-4F6A-9153-870F256C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6B2B8-EA51-4456-A11F-69371D0E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D3080-BB33-4C03-9251-1245383F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C4379-F600-4A3A-9665-BC0174B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D4003-1A71-46CA-896C-10156232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64AE-9AF1-4658-B3B1-1866829A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97169-CCA9-46BC-ABD6-716B1864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0B13C-8846-45B0-BA36-DF0BA3B2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00B3B-01E0-49F8-AFB9-AEC2165B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FAC-ADFB-4CCA-BC73-1DB7FDAD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80D48-ED3D-4B05-96BF-308D5AA7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65D4A-B358-40C7-94F5-ED5B10E5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CA19-EDD5-4F9E-91CD-51754AEC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84AD4-1C30-4944-A960-EA54E439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44BCD-F24F-4C18-A593-1431BE84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D4589-2968-4D50-BAAD-CDE79A03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7A11A-9C48-4CAF-8934-DF052763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22415-1096-45E1-B0B6-DFE0833D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1E941-BF69-4604-A7EF-7EAEB212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1A6C4-18AC-4CB9-BA60-99EA91F1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F59-34FA-47DC-B75B-D6D7E38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B514D-7899-48C4-93A1-805F172B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5D55-0CA8-459A-AD72-790392E5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B31DA-08AC-4894-8CDD-5C906701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9CCCA-680C-4466-9F21-604B33F2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EF1B9-8864-429F-9001-1FA4671C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95D4-4CBF-40A4-AAAF-5701C9AF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CEB0E-E921-4115-BFE1-2A166226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E660-8E5F-4F28-A177-3CFE4FCE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BB899-C727-4254-9E6C-79F6A82C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11BEC-7CCC-4CDC-A83E-9EE1F83C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E22-E073-4C80-9DDB-AECD19E4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FA472-1CD9-4A57-AB3D-49E2CC51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17FBA-566A-4A06-826A-46BB0945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3D17D-CE34-4E78-8B72-369C803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93519-35CD-41FA-843F-594BBC47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93D87-D380-485F-AA5A-333AC4EF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56FBB-7901-4D87-A33C-16FCA5C2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D88BE-CF2F-457E-989B-86586130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B5443-92D9-4441-B298-4C380FEF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C0E9D-2040-4848-86EB-C5D3307A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6C328-FB76-4FA3-9B78-30B31175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C038-3518-4F4A-AC9A-3040FDA43BDC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6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6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500E-5AAD-4658-8136-97361DBD71E5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5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27DB-2325-4C4F-9CCC-07C47CEA2FC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1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7AAB-AB3F-476C-B7C5-A8D97778B8D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4E90-F37E-4E44-BB4B-62911021E95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C482-3A3F-4EDE-AB99-F15A7CA9D8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A9FF-7FCD-4EC1-A320-79DE9825899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2FE2-78D2-4D62-8047-9CDEE6DE195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0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5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5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5274-B962-4547-88B6-C2FF9CF777C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4EDE-B27E-47BC-B35B-940065070E67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7C7C-C7BD-4999-967E-485BE4326A3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489A-33AB-4206-B621-11D3176D9B6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9D63-5F99-4E0A-8B63-2A2C839F1B6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B1D0-08E5-4674-B52A-344FD9FE2A9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448F-3DD4-4A0D-8129-B5B6AE0C71DD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2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2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6E64-8811-45F1-AE9C-D25D3A133EF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7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7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8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5247-6A7C-4540-B51F-8FACFDBD005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6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2571840" y="2057400"/>
            <a:ext cx="400032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2971800" y="2833560"/>
            <a:ext cx="320040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so1.- Antonio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7 añ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tecedentes de epilepsia desde la juventud en tratamiento con 3 medicamen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lió a la calle a las 11 hor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días  previos con malestar gene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las 14 horas, pérdidas súbita de conciencia y convuls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on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3ºC, se enfría con medidas físicas y fluidoterap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ntilación mecánica, drogas vasoacti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C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itus a las 19 ho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2"/>
          <a:stretch/>
        </p:blipFill>
        <p:spPr>
          <a:xfrm>
            <a:off x="5867280" y="2708280"/>
            <a:ext cx="22878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2.- Mar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7 añ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kinson en tratamiento médico y quirúrgico con electro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ndo en la playa, de vacaciones, el 30 de Julio 03, fiebre(41ºC), perdida de conciencia y somnolenc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3 de Agosto, acude a Urgencias con fiebre de 42ºC de 5 días de evolución con ttº antibiót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smus y temblor importan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gresa en UCI se trata con antitérmicos, sueroterapia y oxigen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Tª a las 2 horas baja a 37º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as vasoactivas, intub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olución favo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a a planta a los 5 dí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6140520" y="1268280"/>
            <a:ext cx="1816200" cy="33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so 3.- Esteba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4 añ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taxia de Friedreic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ando de vacaciones en la playa, en Agosto, cuadro de gastroenteritis y posible golpe de cal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rogas vasoactivas y ventilación mecánic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Trasladado a Granada  a los 20 dí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e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icialmente tiene una evolución favor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arrolla posteriormente un SD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ioro hemodinámic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llece a los 59 días del ingr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2"/>
          <a:stretch/>
        </p:blipFill>
        <p:spPr>
          <a:xfrm>
            <a:off x="4641840" y="2394000"/>
            <a:ext cx="392580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408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forme preliminar de la Oficina Regional de la OMS sobre la ola de calor del 2003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53" name=""/>
          <p:cNvGraphicFramePr/>
          <p:nvPr/>
        </p:nvGraphicFramePr>
        <p:xfrm>
          <a:off x="457200" y="1600200"/>
          <a:ext cx="8229600" cy="5065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leci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temas de alar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4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, en Lisboa, ICA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pañ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uidados de Enfermería en el golpe de calo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golpe de ca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os en el Virgen de las Nieves de Gr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ri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aración de datos entre sep. 2003 y Mayo 2004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57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leci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ción para la gestión y protección del medio amb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4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ino Uni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pañ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769080" cy="45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1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1"/>
          <a:stretch/>
        </p:blipFill>
        <p:spPr>
          <a:xfrm>
            <a:off x="2050920" y="1789200"/>
            <a:ext cx="4826160" cy="39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friamiento en UC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ño frí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1"/>
          <a:stretch/>
        </p:blipFill>
        <p:spPr>
          <a:xfrm>
            <a:off x="4932360" y="1771560"/>
            <a:ext cx="342900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fr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roterapia a temperatura ambiente o f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1"/>
          <a:stretch/>
        </p:blipFill>
        <p:spPr>
          <a:xfrm>
            <a:off x="4952880" y="476280"/>
            <a:ext cx="342900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fr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r con técnica estéril suero helado en las cavidades gástrica y ve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4648320" y="1052640"/>
            <a:ext cx="4038480" cy="44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fr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te la Hemofilt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1"/>
          <a:stretch/>
        </p:blipFill>
        <p:spPr>
          <a:xfrm>
            <a:off x="1911240" y="1981080"/>
            <a:ext cx="1128960" cy="186696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2"/>
          <a:stretch/>
        </p:blipFill>
        <p:spPr>
          <a:xfrm>
            <a:off x="5446800" y="1981080"/>
            <a:ext cx="244008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fr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te la circulación extracorpó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1"/>
          <a:stretch/>
        </p:blipFill>
        <p:spPr>
          <a:xfrm>
            <a:off x="5226120" y="2286000"/>
            <a:ext cx="28828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" descr=""/>
          <p:cNvPicPr/>
          <p:nvPr/>
        </p:nvPicPr>
        <p:blipFill>
          <a:blip r:embed="rId1"/>
          <a:stretch/>
        </p:blipFill>
        <p:spPr>
          <a:xfrm>
            <a:off x="2700360" y="765000"/>
            <a:ext cx="4248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sistemas de alarma identifican masas de aire con sus repercusiones en la sal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erten a la población de lo que deben ha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4648320" y="2724120"/>
            <a:ext cx="403848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orregul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p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4648320" y="2771640"/>
            <a:ext cx="40384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didas individuales de preven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mar líquidos, sin esperar a tener s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tomar alcohol ni bebidas hel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manecer en el interior de las viviendas y/o buscar lugares con aire acondicion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stir con ropa fres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nca dejar a nadie en un vehículo cerrado y aparc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gilancia regular de  niños, jóvenes, mayores de 65 años, enfermos mentales, físicos y especialmente enfermos cardíacos e hiperten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tar al menos dos veces al día a las personas en riesgo y mas frecuentemente a niñ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i usted debe permanecer en el exterior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e su actividad fuera a las primeras horas de la mañana y últimas de la tar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je el ejercicio, si no puede, beba de dos a cuatro vasos de agua o refrescos cada ho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nte permanecer a la somb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éjase del sol con sombreros, ropa fresca, gafas de sol, y cremas protectoras por encima de  factor 1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la urbana de cal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temperaturas son mas altas en zonas urba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ayor densidad de población, mayor temper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planes de urbanismo deben contemplar este fenóme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5049720" y="1646280"/>
            <a:ext cx="3392640" cy="44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tecnología  meteorológica  nos permite predecir el tiempo que hará con bastante antelación,¿ tenemos el  sistema social y sanitario para dar respues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936720" y="747720"/>
            <a:ext cx="726912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fermedades por c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416320" y="1981080"/>
            <a:ext cx="4240080" cy="3672000"/>
            <a:chOff x="2416320" y="1981080"/>
            <a:chExt cx="4240080" cy="3672000"/>
          </a:xfrm>
        </p:grpSpPr>
        <p:sp>
          <p:nvSpPr>
            <p:cNvPr id="1112" name="_s20487"/>
            <p:cNvSpPr/>
            <p:nvPr/>
          </p:nvSpPr>
          <p:spPr>
            <a:xfrm flipV="1">
              <a:off x="3828960" y="1981080"/>
              <a:ext cx="1414440" cy="1224000"/>
            </a:xfrm>
            <a:custGeom>
              <a:avLst/>
              <a:gdLst>
                <a:gd name="textAreaLeft" fmla="*/ 507600 w 1414440"/>
                <a:gd name="textAreaRight" fmla="*/ 906840 w 1414440"/>
                <a:gd name="textAreaTop" fmla="*/ 439200 h 1224000"/>
                <a:gd name="textAreaBottom" fmla="*/ 784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gotamiento por calor, golpe de ca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_s20488"/>
            <p:cNvSpPr/>
            <p:nvPr/>
          </p:nvSpPr>
          <p:spPr>
            <a:xfrm flipV="1">
              <a:off x="3122640" y="3205080"/>
              <a:ext cx="2827440" cy="1224000"/>
            </a:xfrm>
            <a:custGeom>
              <a:avLst/>
              <a:gdLst>
                <a:gd name="textAreaLeft" fmla="*/ 621720 w 2827440"/>
                <a:gd name="textAreaRight" fmla="*/ 2205720 w 2827440"/>
                <a:gd name="textAreaTop" fmla="*/ 268920 h 1224000"/>
                <a:gd name="textAreaBottom" fmla="*/ 9550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lambres, sinco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_s20489"/>
            <p:cNvSpPr/>
            <p:nvPr/>
          </p:nvSpPr>
          <p:spPr>
            <a:xfrm flipV="1">
              <a:off x="2416320" y="4429080"/>
              <a:ext cx="4240080" cy="1224000"/>
            </a:xfrm>
            <a:custGeom>
              <a:avLst/>
              <a:gdLst>
                <a:gd name="textAreaLeft" fmla="*/ 735840 w 4240080"/>
                <a:gd name="textAreaRight" fmla="*/ 3504240 w 4240080"/>
                <a:gd name="textAreaTop" fmla="*/ 212400 h 1224000"/>
                <a:gd name="textAreaBottom" fmla="*/ 10116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rupciones en la piel, fatiga por cal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idad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457200" y="2113920"/>
            <a:ext cx="4038480" cy="3497400"/>
            <a:chOff x="457200" y="2113920"/>
            <a:chExt cx="4038480" cy="3497400"/>
          </a:xfrm>
        </p:grpSpPr>
        <p:sp>
          <p:nvSpPr>
            <p:cNvPr id="1117" name="_s23558"/>
            <p:cNvSpPr/>
            <p:nvPr/>
          </p:nvSpPr>
          <p:spPr>
            <a:xfrm flipV="1">
              <a:off x="1803240" y="2113560"/>
              <a:ext cx="1345680" cy="1165320"/>
            </a:xfrm>
            <a:custGeom>
              <a:avLst/>
              <a:gdLst>
                <a:gd name="textAreaLeft" fmla="*/ 482760 w 1345680"/>
                <a:gd name="textAreaRight" fmla="*/ 862920 w 134568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ención hospitalari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_s23559"/>
            <p:cNvSpPr/>
            <p:nvPr/>
          </p:nvSpPr>
          <p:spPr>
            <a:xfrm flipV="1">
              <a:off x="1130040" y="3278880"/>
              <a:ext cx="2692080" cy="116676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mbar al paciente en horizonta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_s23560"/>
            <p:cNvSpPr/>
            <p:nvPr/>
          </p:nvSpPr>
          <p:spPr>
            <a:xfrm flipV="1">
              <a:off x="457200" y="444564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idratación oral, permanecer en ambiente fres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5410080" y="214776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licaciones del golpe de calo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distrés respirato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lo re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lo hepá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gulación intravascular disemin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e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qué a los déb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ancianos son vulnerables por sus cambios intrínsecos en la termorreg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n medicamentos que impiden tener pronto sensación de male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da sud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6192720" y="1978200"/>
            <a:ext cx="949320" cy="143172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5810400" y="4175280"/>
            <a:ext cx="1714320" cy="171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tores de riesg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hidratación debida a la reducción de alimentos y bebida o a enferm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so de drogas y alcoh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o de medicamentos tales como diuréticos, B-bloqueantes, anticolinérgicos, digitálicos y barbitúricos, especialmente combinados con hipertens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os agudos, tales como diarrea, fiebre, infecciones y quemaduras en la pi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fermedades crónicas mentales, obesidad e hiperte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Diagnósticos que pueden enmascarar un golpe de calor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fermedades coronari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mbosis cereb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7:30:10Z</dcterms:created>
  <dc:creator>Julio</dc:creator>
  <dc:description/>
  <dc:language>en-US</dc:language>
  <cp:lastModifiedBy>Agustín Prieto</cp:lastModifiedBy>
  <dcterms:modified xsi:type="dcterms:W3CDTF">2004-09-09T10:24:47Z</dcterms:modified>
  <cp:revision>39</cp:revision>
  <dc:subject/>
  <dc:title>Cuidados de Enfermeria en el golpe de calor</dc:title>
</cp:coreProperties>
</file>