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693-6752-4551-A126-AF7397BD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2A2-134F-422A-AB16-0A3025AC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70F-3260-473E-9FE7-1DDDDA3D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FB1-EF13-4FB8-BE01-34F487A6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98B-AF4F-445F-A513-4DD9FF10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0A0-5664-4C04-8BB2-81A3D408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735-A8CE-4F61-AA3F-FC2EA8EE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DAF-A378-4CE4-9EF0-C44D0688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714-3560-457F-A2D4-DAAEAC3D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C0F-B5D5-4CEB-B96C-B6C476FF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F56-7886-4273-921D-AFC48DEC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A45-BE94-4AF9-B524-7EC0400A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35A7-BAC5-4891-8063-9408C6233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MANEJO DEL PACIENTE EN URG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657240"/>
            <a:ext cx="6705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ra Luisa García  Marqu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rvicio de Urg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ospital Clínico Univers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antiago de Compost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STEMATICA EN LAS ORDENES DE TRA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1532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men del juicio diagnós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do del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er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sición del enfermo: actividades permit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rol de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strucciones de enferm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parte de O2: forma y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íquidos iv: tipo/ Cantidad/ electr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dicación: nombre genérico/ cantidad/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ratam" descr=""/>
          <p:cNvPicPr/>
          <p:nvPr/>
        </p:nvPicPr>
        <p:blipFill>
          <a:blip r:embed="rId1"/>
          <a:stretch/>
        </p:blipFill>
        <p:spPr>
          <a:xfrm>
            <a:off x="9144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ONCLUSIÓN DEL MANEJO DEL PACIENTE EN URGENCIAS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 vuestro corazón como en la imagen insertada, sea igual de grande y lo mantengáis siempre a punto en el trato con los pacientes que acuden a nuestro servicio, quizás esta sea la mejor de las armas en la lucha contra la enferm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uisa García Marqu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D06537_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419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NEJO DEL PACIENTE EN URG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alidades requeridas por el 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lación médico-pa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ses de la clí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amnesis y exploración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so e interpretación de las pruebas diagnó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se de datos de la historia clí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stemática en las órdenes de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209680"/>
            <a:ext cx="81532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cidir con rapidez de forma esqu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bor de equipo médico y para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atención al paciente es el resultado de una acción coordinada de muchas personas, cuya figura central es el Médico clí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CUALIDADES REQUERIDAS POR EL MEDICO DE URG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INTELECTU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ocimientos y formación continu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O INTELECTU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pacidad de organización y síntesis, desarrollo del método científic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UICIO CLINIC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identidad del probl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ecesidad de diagnóstico diferen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oma de decisiones en la práctica médica.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ponsabilidad, solidaridad y respeto al pa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municación ver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arrollo de habilidades y técnicas de expl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320040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LACIÓN MEDICO-PAC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752480"/>
            <a:ext cx="739152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BJETIVO DE LA ACTUACION:  EL ENFE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MOSTRAR VERDADERO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PLICAR LAS PRUEBAS COMPLEMENTARIAS          A REA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CTITUD CONDESCENDIENTE CON FAMILIARES A LA VEZ QUE DECI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BASES DE LA CLINICA</a:t>
            </a:r>
            <a:br>
              <a:rPr sz="3600"/>
            </a:b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ANAMNESI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3880"/>
            <a:ext cx="8001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ituye el procedimiento de mayor rentabilidad diagnó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Qué le pasa?    ¿Desde cuándo?    ¿A qué lo atribuy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icio de la relación médico-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adaptarse a la capacidad intelectual del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incipal objetivo: historia del problema actual y más 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star atención al relato del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er la situación basal del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dicación previa/ Alergias/ antecedentes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letar la anamnesia con el entorno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BASES DE LA CLINICA</a:t>
            </a:r>
            <a:br>
              <a:rPr sz="3600"/>
            </a:b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LORACION FIS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9051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ploración general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ploración más detallada del área alt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hay alteración del nivel de conci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permanecer en silencio y concent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seguir un orden sistemático  y 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no expresar signos de “alarma”, “asco”... ante resultado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btenidos y/o exploraciones realiz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O E INTERPRETACION DE LAS PRUEBAS DIAGNO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76520"/>
            <a:ext cx="8229600" cy="49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 objetivo debería ser la confirmación o invalidación de las hipótesis diagnósticas planteadas  durante dichos procedimientos clín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empre se solicitarán en base a un  diagnóstico definitivo y basados en la más estricta lógica de los datos obtenidos de la exploración fís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iagnóstico clínico es fundamental para la práctica médica ya que permite la instauración de medidas terapéuticas adecuadas y la estimación de un pronóstico corr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oceso diagnóstico se basa en el enfrentamiento de dos bases de datos y se inicia en la propia anamnes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) por un lado los conocimientos médicos y de la historia natural de las enferme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)por otro lado la información obtenida del paciente que debe ser lo más segura y completa po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BASE DE DATOS DE LA HISTORIA CLI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371600"/>
            <a:ext cx="77724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fil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tivo de consulta 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rfil del paciente: profesión, hábitos, personalida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ntecedentes personales y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istoria del problem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namnesia y exploración por apa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mpresión diagnó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tino del paciente: alta, observación,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y nombre legible al final de la 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3:33:07Z</dcterms:created>
  <dc:creator>Unknown User</dc:creator>
  <dc:description/>
  <dc:language>en-US</dc:language>
  <cp:lastModifiedBy>Ángel Bernardo</cp:lastModifiedBy>
  <dcterms:modified xsi:type="dcterms:W3CDTF">2003-01-12T19:41:53Z</dcterms:modified>
  <cp:revision>8</cp:revision>
  <dc:subject/>
  <dc:title>MANEJO DEL PACIENTE EN URGENCIAS</dc:title>
</cp:coreProperties>
</file>