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794-51E3-45B4-A374-E4B02A15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6C6-67CA-421B-BB5B-3864CB07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B56-A831-46F7-B56E-D3D8CFF4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007-8026-40CB-A853-0866F51A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1EC2-8FBD-4D7A-854A-AB262319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FDEA-FFD2-4D7B-8B65-54FB2195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1FC1-22B6-416E-B97C-F043444B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A0BB-1BE4-4217-A489-8DF8633E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EBEA-CF3D-44C2-BA3D-20ED3A26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64B1-33CA-4D31-878A-FCCFB5B6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5F15-915E-4451-9B4C-ECB5C25D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5D3-3DF4-44AD-BFA7-C80FF784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83F8-7200-40D7-933D-58FA43DE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D01A-D84C-4C41-8228-D04B8A51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8321-802F-4CAB-B3F6-F8FCC3B2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9B3D-3A0C-4908-B20C-9938005C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9BBA-260D-4A80-B552-01231B02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6F9-5C22-4B1A-B3EA-69CF56E7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682-E535-49F7-8C34-1AF93960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E6C-C788-43D4-A9F8-5255D733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43F-77EB-455A-A129-857FB399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8E1-1983-4035-884E-5F3FBCEE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DE4-A0E4-461E-8A3C-E74FF3E6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6FA-31EC-47EB-AF4C-B5E086AB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4168-465E-4538-AB4C-E29592C900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CFC-F139-4A3E-8B5D-5CA899E0F5B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b7e7ff"/>
                </a:solidFill>
                <a:latin typeface="Arial"/>
              </a:rPr>
              <a:t>R.A.C.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askerville Old Face"/>
              </a:rPr>
              <a:t>RECE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askerville Old Face"/>
              </a:rPr>
              <a:t>ACOG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askerville Old Face"/>
              </a:rPr>
              <a:t>CLASIF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logo%20nuevo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5564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Clinico" descr=""/>
          <p:cNvPicPr/>
          <p:nvPr/>
        </p:nvPicPr>
        <p:blipFill>
          <a:blip r:embed="rId3"/>
          <a:stretch/>
        </p:blipFill>
        <p:spPr>
          <a:xfrm>
            <a:off x="2666880" y="2133720"/>
            <a:ext cx="403884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Habilida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6335640" cy="5550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47640" y="1052640"/>
            <a:ext cx="6048720" cy="5629320"/>
          </a:xfrm>
          <a:prstGeom prst="rect">
            <a:avLst/>
          </a:prstGeom>
          <a:ln w="0">
            <a:noFill/>
          </a:ln>
        </p:spPr>
      </p:pic>
      <p:pic>
        <p:nvPicPr>
          <p:cNvPr id="132" name="logo%20nuevo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75564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ACTITU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553440" cy="5299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403280" y="1844640"/>
            <a:ext cx="6551640" cy="4138560"/>
          </a:xfrm>
          <a:prstGeom prst="rect">
            <a:avLst/>
          </a:prstGeom>
          <a:ln w="0">
            <a:noFill/>
          </a:ln>
        </p:spPr>
      </p:pic>
      <p:pic>
        <p:nvPicPr>
          <p:cNvPr id="136" name="logo%20nuevo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75564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Recursos Económic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Área delimitada de uso exclus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otación de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porte informá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logo%20nuevo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55640" cy="76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406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e la atención integral al pa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e el desarrollo profesional y humano de la enferm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cilita la posterior asistencia del facult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 un sistema abierto y flex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 un sistema diná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logo%20nuevo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55640" cy="76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espana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"/>
              </a:rPr>
              <a:t>Nacimiento del RAC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ecomendación científica 99/01/01, de 15 de junio de 1999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actividad de recepción, acogida y clasificación es propia de los diplomados de enfermería por su cualificaci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logo%20nuevo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55640" cy="76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Objetivo General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61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jorar la calidad y la eficacia de los servicios de urgencias y emergencias, para la mejor respuesta a las necesidades de los usuarios, estableciendo criterios homogéneos, científicos y coherentes sobre la necesidad de atención, que un paciente presenta con respecto a su demanda de asistencia y sobre la base de ello, aplicar las intervenciones enfermeras para garantizar su segurid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logo%20nuevo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55640" cy="76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288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"/>
              </a:rPr>
              <a:t>Objetivos Específicos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-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ápida valoración sani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Reducir ansi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Evaluación rápida de la situación clí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Establecer la prioridad asisten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Infor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* Aumentar la seguridad y la confianza en el sistema para predisponer al paciente hacia una actitud terapéutica posi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logo%20nuevo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55640" cy="76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371600"/>
            <a:ext cx="8839440" cy="46483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00a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"/>
              </a:rPr>
              <a:t>Procedimiento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62480" y="3419640"/>
            <a:ext cx="25048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ff"/>
                </a:solidFill>
                <a:latin typeface="Arial"/>
              </a:rPr>
              <a:t>Interro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ff"/>
                </a:solidFill>
                <a:latin typeface="Arial"/>
              </a:rPr>
              <a:t>Inspe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ff"/>
                </a:solidFill>
                <a:latin typeface="Arial"/>
              </a:rPr>
              <a:t>Técnicas de enferme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ff"/>
                </a:solidFill>
                <a:latin typeface="Arial"/>
              </a:rPr>
              <a:t>Intervenciones de enferme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67360" y="2389320"/>
            <a:ext cx="317664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askerville Old Face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 Urgencia v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I Muy ur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II Ur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V Urgencia rel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askerville Old Face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Baskerville Old Face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62480" y="2389320"/>
            <a:ext cx="2504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askerville Old Face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ª Valo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389320"/>
            <a:ext cx="328320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cib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dentificar pac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ª Valo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esen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for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67360" y="1628640"/>
            <a:ext cx="2997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LASIFIC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62480" y="1628640"/>
            <a:ext cx="25048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COG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628640"/>
            <a:ext cx="32832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CEP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389320"/>
            <a:ext cx="8785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760" y="6095880"/>
            <a:ext cx="88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617220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* Los sistemas de triage tienden actualmente a adoptar 5 niveles de clas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logo%20nuevo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5564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24080" y="13716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3716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124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Arial"/>
              </a:rPr>
              <a:t>Material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oritmos de dec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ja de registro de R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be cumpl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r documento adecuado legal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unicar y justificar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porcionar una base de d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acilitar la continuidad de los cuid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daptarse a las condiciones del cen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r de fácil cober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299736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523880"/>
            <a:ext cx="698508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- Debe constar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datos del pac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ora de lleg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ora de entrada en consulta R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ora de salida de consulta R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ora de 1ª asistencia facult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ivel de Clasificación y zona de dis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o de consulta, signos y sínto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tos de interés (referidos al motivo de consul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lerg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mbre del Enfermero que hace el RAC y su fi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stantes vitales del pac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uebas realizadas en la RAC o solicitadas desde all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tervenciones de enfermería realizadas en el R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agnósticos de enferm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logo%20nuevo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55640" cy="76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Evaluación y valoración </a:t>
            </a:r>
            <a:br>
              <a:rPr sz="4000"/>
            </a:b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del sistema RAC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dicadores de calid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empos de respuesta (triage, 1ª asistencia facultativ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do de cumplimentación del registro R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do de calidad de la codificación diagnós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ontecimientos centin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logo%20nuevo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55640" cy="76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Necesidades 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que genera el RAC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unciones de la enfermera de R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rdenar la demanda asiste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licar técnicas propias de la prof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acilitar seguridad y apoyo a paciente y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guimiento y vigilancia de “patologías menor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evaluar y reclasific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ntener inform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porcionar calidez hum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341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logo%20nuevo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55640" cy="76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mo guía, vamos a tomar de referencia, la utilizada actualmente en el “Hospital Alto Guadalquivir” Andujar, Jaén.</a:t>
            </a: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700280"/>
          <a:ext cx="7776720" cy="600120"/>
        </p:xfrm>
        <a:graphic>
          <a:graphicData uri="http://schemas.openxmlformats.org/drawingml/2006/table">
            <a:tbl>
              <a:tblPr/>
              <a:tblGrid>
                <a:gridCol w="777672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ocimien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7775640" cy="4338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7777080" cy="388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11280" y="2349360"/>
            <a:ext cx="7777080" cy="4287960"/>
          </a:xfrm>
          <a:prstGeom prst="rect">
            <a:avLst/>
          </a:prstGeom>
          <a:ln w="0">
            <a:noFill/>
          </a:ln>
        </p:spPr>
      </p:pic>
      <p:pic>
        <p:nvPicPr>
          <p:cNvPr id="128" name="logo%20nuevo" descr=""/>
          <p:cNvPicPr/>
          <p:nvPr/>
        </p:nvPicPr>
        <p:blipFill>
          <a:blip r:embed="rId5"/>
          <a:stretch/>
        </p:blipFill>
        <p:spPr>
          <a:xfrm>
            <a:off x="0" y="0"/>
            <a:ext cx="60480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17:46:33Z</dcterms:created>
  <dc:creator>Isabel</dc:creator>
  <dc:description/>
  <dc:language>en-US</dc:language>
  <cp:lastModifiedBy>Agustín Prieto</cp:lastModifiedBy>
  <dcterms:modified xsi:type="dcterms:W3CDTF">2004-12-07T14:23:36Z</dcterms:modified>
  <cp:revision>11</cp:revision>
  <dc:subject/>
  <dc:title>R.A.C.</dc:title>
</cp:coreProperties>
</file>