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AD3-E162-4143-9EB8-F15E6E48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135-A21C-4070-9E2F-E5ECF71F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C83-390C-4DB0-9DC1-AC17C8EE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538-A495-427A-AC09-A01BFAE8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DF6-42D7-4509-8D2A-7129077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F64-CA47-4AD5-A28E-0736231F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F5E-F5D1-4F7E-BF9A-9C18EF4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293-7175-41BA-ACA1-F84439BA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688-9229-4122-AA56-2206F833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D41-A1E5-41D1-8181-ACC1A9D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726-7FCD-41DF-AFD0-D6E1A5E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861-80E6-4E7B-A6E2-5FBEA0C2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74CD-EAEC-4B8E-8FDC-D7C6C12117FF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CP EN LA EMBARAZAD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IDENCI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/30.000 embaraz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icaciones propias del embar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opatía previa o desarrollo de nueva enfermedad cardía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ros: Accidentes, consumo de droga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INTURÓN: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l milagro de la vid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lamentación no determin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GT recomienda su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do por el 50% de las embaraz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da pélvica sobre los muslos, debajo del útero y banda superior entre las ma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~AUT0005" descr=""/>
          <p:cNvPicPr/>
          <p:nvPr/>
        </p:nvPicPr>
        <p:blipFill>
          <a:blip r:embed="rId1"/>
          <a:srcRect l="0" t="2375" r="4839" b="0"/>
          <a:stretch/>
        </p:blipFill>
        <p:spPr>
          <a:xfrm>
            <a:off x="5486400" y="2057400"/>
            <a:ext cx="259092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~AUT0006" descr=""/>
          <p:cNvPicPr/>
          <p:nvPr/>
        </p:nvPicPr>
        <p:blipFill>
          <a:blip r:embed="rId2"/>
          <a:stretch/>
        </p:blipFill>
        <p:spPr>
          <a:xfrm>
            <a:off x="5715000" y="5410080"/>
            <a:ext cx="882720" cy="1041480"/>
          </a:xfrm>
          <a:prstGeom prst="rect">
            <a:avLst/>
          </a:prstGeom>
          <a:ln w="0">
            <a:noFill/>
          </a:ln>
        </p:spPr>
      </p:pic>
      <p:pic>
        <p:nvPicPr>
          <p:cNvPr id="65" name="~AUT0007" descr=""/>
          <p:cNvPicPr/>
          <p:nvPr/>
        </p:nvPicPr>
        <p:blipFill>
          <a:blip r:embed="rId3"/>
          <a:stretch/>
        </p:blipFill>
        <p:spPr>
          <a:xfrm>
            <a:off x="7086600" y="5410080"/>
            <a:ext cx="82692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OPORTE VITAL BÁSIC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iobra de Heimlich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cio medio del estern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CIÓ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úbito supino con desplazamiento del útero hacia el lado izquierdo manualmente o mediante cuñas o mantas que eleven la cadera derec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~AUT0001" descr=""/>
          <p:cNvPicPr/>
          <p:nvPr/>
        </p:nvPicPr>
        <p:blipFill>
          <a:blip r:embed="rId1"/>
          <a:srcRect l="7527" t="7404" r="2809" b="1857"/>
          <a:stretch/>
        </p:blipFill>
        <p:spPr>
          <a:xfrm>
            <a:off x="5181480" y="2286000"/>
            <a:ext cx="289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OPORTE VITAL AVANZAD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XÍGENO al 10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FIBRI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OG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renalina con precaución...compromete la circulación fe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docaína sin restri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enosina en TSV y no verapamilo (atonía uterin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ß-bloqueantes y la digoxina pueden inducir contraccion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IABILIDAD FET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24 SEMANA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to no vi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gt; 24 SEMANAS-28 SEMANA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to vi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sárea postmortem indicada en embarazo mayor de 24 semanas o ante duda de viabilidad fetal tras 5-10 minutos de RC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~AUT0004" descr=""/>
          <p:cNvPicPr/>
          <p:nvPr/>
        </p:nvPicPr>
        <p:blipFill>
          <a:blip r:embed="rId1"/>
          <a:srcRect l="1565" t="3705" r="3129" b="3705"/>
          <a:stretch/>
        </p:blipFill>
        <p:spPr>
          <a:xfrm>
            <a:off x="1828800" y="4343400"/>
            <a:ext cx="4648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RAUMA EN EL EMBARAZ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IDENCIA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caus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 son los accidentes de tráfico y el tipo más frecuente es el trauma cerr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 causa de muerte no obstétr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tamos dos vidas. El feto puede sufrir tanto lesiones directas como derivadas de las alteraciones mater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mbios anatomo-fisiológico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.C. 15-20 latidos/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.A.15 mm.H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ción progresiva del diafragma y ensanchamiento compensador de las costillas. Hiperventi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lidad gástrica aumentando el riesgo de broncoaspi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or sangrado de lesiones hemorrágicas debajo de compresión de ca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urinario más vuln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ORACIÓN GENERAL (peculiaridades)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xitud y distensión abdominal pueden enmascarar los signos de irritación periton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rdidas progresivas de un 35% o bruscas de un 20% del vol circulante sin signos de hipovolem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indicación de drogas vasopreso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LESIONES ESPECÍFIC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CCIONES UTERI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RENDIMIENTO PREMATURO DE PLAC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TISMO UTER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LESIONES FETAL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RIMIENTO F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IONES FETALES DIREC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8:13:03Z</dcterms:created>
  <dc:creator>J. A. Diaz</dc:creator>
  <dc:description/>
  <dc:language>en-US</dc:language>
  <cp:lastModifiedBy>J. A. Diaz</cp:lastModifiedBy>
  <dcterms:modified xsi:type="dcterms:W3CDTF">2003-01-31T20:40:54Z</dcterms:modified>
  <cp:revision>13</cp:revision>
  <dc:subject/>
  <dc:title>RCP EN LA EMBARAZADA</dc:title>
</cp:coreProperties>
</file>