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3.png" ContentType="image/png"/>
  <Override PartName="/ppt/media/image13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20.jpeg" ContentType="image/jpeg"/>
  <Override PartName="/ppt/media/image30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31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4.png" ContentType="image/pn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6.jpeg" ContentType="image/jpeg"/>
  <Override PartName="/ppt/media/image1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ADE-24BD-4721-BE7A-3324B9F9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D11-5F42-4959-8465-DC9A4D72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F921-7716-4FD9-A362-F792FBDF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F49-F2CD-4C13-8A36-E0F6F660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2D15-1F26-4B4E-A642-324C1AD2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DF9B-67EC-4044-BC1E-2F910232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A437-12DF-4A3A-ACEB-E64447D5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E279-538D-46AA-90B2-705DCB07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CE54-ED59-432C-A87F-FEFCC55E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E8C1-314E-4F74-A149-F06DDC8A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4DFD-F7B1-45E5-9C94-77EB620C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2BC-6A1F-49F7-8B8F-E802D0D3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00DC-1601-468A-BD5F-7AE749F9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4513-9964-44BF-B431-1F4B60C6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2F3B-AD27-4A20-9DE6-2CC73917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ABD7-66B3-425E-9E18-85D69B81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20FC-A65B-43C4-9830-339314C2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165-706E-4222-A3D1-3DD210B7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7E35-B077-4AB4-BDC5-3A09510A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6EE-7B34-4708-9090-E0454593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7C3-1CC6-4929-83AA-DCF38A0F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C623-B757-4738-AEDA-A4FF0A8B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80A-9F66-43E3-B32C-583DD0C7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6FA-9944-4B2F-8FF7-2E9B1A83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BDDA-EAE8-46D1-9EA8-596418573A6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FC19-EA05-4AE5-BAA9-B10FBF5264A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4.jpeg"/><Relationship Id="rId5" Type="http://schemas.openxmlformats.org/officeDocument/2006/relationships/image" Target="../media/image16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cc66"/>
                </a:solidFill>
                <a:latin typeface="Comic Sans MS"/>
              </a:rPr>
              <a:t>Soporte Vital Básico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Amadeo Paredes Rodrígu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Enferm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cc66"/>
                </a:solidFill>
                <a:latin typeface="Comic Sans MS"/>
              </a:rPr>
              <a:t>(A)</a:t>
            </a:r>
            <a:r>
              <a:rPr b="0" lang="es-ES" sz="4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s-ES" sz="4400" spc="-1" strike="noStrike">
                <a:solidFill>
                  <a:srgbClr val="ffcc66"/>
                </a:solidFill>
                <a:latin typeface="Comic Sans MS"/>
              </a:rPr>
              <a:t>Apertura vía aére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a obstrucción completa de la vía aérea llevará a la muerte en unos minutos, por lo que en toda víctima inconsciente,  su apertura, debe ser inmedi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Comic Sans MS"/>
              </a:rPr>
              <a:t>Técnica apertura vía aére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RCP04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2973600" cy="2133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Maniobra “frente –menton”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Mano derecha sobre frente víct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Dos dedos mano izquierda debajo mandíbu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Barrido digital con dedo índice en forma de ganc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airway" descr=""/>
          <p:cNvPicPr/>
          <p:nvPr/>
        </p:nvPicPr>
        <p:blipFill>
          <a:blip r:embed="rId4"/>
          <a:stretch/>
        </p:blipFill>
        <p:spPr>
          <a:xfrm>
            <a:off x="228600" y="1905120"/>
            <a:ext cx="2571840" cy="1981080"/>
          </a:xfrm>
          <a:prstGeom prst="rect">
            <a:avLst/>
          </a:prstGeom>
          <a:ln w="0">
            <a:noFill/>
          </a:ln>
        </p:spPr>
      </p:pic>
      <p:pic>
        <p:nvPicPr>
          <p:cNvPr id="129" name="BUSCA CUERPO EXTRAÑO" descr=""/>
          <p:cNvPicPr/>
          <p:nvPr/>
        </p:nvPicPr>
        <p:blipFill>
          <a:blip r:embed="rId5"/>
          <a:stretch/>
        </p:blipFill>
        <p:spPr>
          <a:xfrm>
            <a:off x="6019920" y="1828800"/>
            <a:ext cx="2624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Una vez comprobado que, la víctima está inconsciente, colocada en posición RCP, se ha realizado la apertura vía aérea y limpieza de la boca, debe comprobar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omic Sans MS"/>
              </a:rPr>
              <a:t>Si existe, o no existe, respiración espontán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cc66"/>
                </a:solidFill>
                <a:latin typeface="Comic Sans MS"/>
              </a:rPr>
              <a:t>(B)</a:t>
            </a:r>
            <a:r>
              <a:rPr b="0" lang="es-ES" sz="4800" spc="-1" strike="noStrike">
                <a:solidFill>
                  <a:srgbClr val="ffcc66"/>
                </a:solidFill>
                <a:latin typeface="Comic Sans MS"/>
              </a:rPr>
              <a:t> Soporte ventilatorio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Comic Sans MS"/>
              </a:rPr>
              <a:t>Comprobación respiración espontáne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3962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l reanimador oirá y sentirá, su respi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Comprobar ,al mismo tiempo, movimiento torác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diagno1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380988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800240" y="30481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ostura lateral de segur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cc66"/>
                </a:solidFill>
                <a:latin typeface="Comic Sans MS"/>
              </a:rPr>
              <a:t>Técnica RCP básic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2362320"/>
            <a:ext cx="9144000" cy="2501640"/>
            <a:chOff x="0" y="2362320"/>
            <a:chExt cx="9144000" cy="2501640"/>
          </a:xfrm>
        </p:grpSpPr>
        <p:sp>
          <p:nvSpPr>
            <p:cNvPr id="138" name=""/>
            <p:cNvSpPr/>
            <p:nvPr/>
          </p:nvSpPr>
          <p:spPr>
            <a:xfrm>
              <a:off x="0" y="2362320"/>
              <a:ext cx="9144000" cy="17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2362320"/>
              <a:ext cx="4832280" cy="25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8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0" name="recuperacion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3962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Comic Sans MS"/>
              </a:rPr>
              <a:t>Ventilación con aire espirado: ventilación de rescat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4571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Comic Sans MS"/>
              </a:rPr>
              <a:t>Ventilación boca-boc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ff"/>
                </a:solidFill>
                <a:latin typeface="Comic Sans MS"/>
              </a:rPr>
              <a:t>Realizar </a:t>
            </a:r>
            <a:r>
              <a:rPr b="1" lang="es-ES" sz="2400" spc="-1" strike="noStrike">
                <a:solidFill>
                  <a:srgbClr val="ff9900"/>
                </a:solidFill>
                <a:latin typeface="Comic Sans MS"/>
              </a:rPr>
              <a:t>2</a:t>
            </a:r>
            <a:r>
              <a:rPr b="1" lang="es-ES" sz="2400" spc="-1" strike="noStrike">
                <a:solidFill>
                  <a:srgbClr val="3366ff"/>
                </a:solidFill>
                <a:latin typeface="Comic Sans MS"/>
              </a:rPr>
              <a:t> ventilaciones lentas y suces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ff"/>
                </a:solidFill>
                <a:latin typeface="Comic Sans MS"/>
              </a:rPr>
              <a:t>Continuar con </a:t>
            </a:r>
            <a:r>
              <a:rPr b="1" lang="es-ES" sz="2400" spc="-1" strike="noStrike">
                <a:solidFill>
                  <a:srgbClr val="ff9900"/>
                </a:solidFill>
                <a:latin typeface="Comic Sans MS"/>
              </a:rPr>
              <a:t>12</a:t>
            </a:r>
            <a:r>
              <a:rPr b="1" lang="es-ES" sz="2400" spc="-1" strike="noStrike">
                <a:solidFill>
                  <a:srgbClr val="3366ff"/>
                </a:solidFill>
                <a:latin typeface="Comic Sans MS"/>
              </a:rPr>
              <a:t> ventilaciones por  min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9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44" name="10" descr=""/>
          <p:cNvPicPr/>
          <p:nvPr/>
        </p:nvPicPr>
        <p:blipFill>
          <a:blip r:embed="rId2"/>
          <a:stretch/>
        </p:blipFill>
        <p:spPr>
          <a:xfrm>
            <a:off x="5410080" y="22860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Comic Sans MS"/>
              </a:rPr>
              <a:t>Ventilación de resc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RCP05" descr=""/>
          <p:cNvPicPr/>
          <p:nvPr/>
        </p:nvPicPr>
        <p:blipFill>
          <a:blip r:embed="rId1"/>
          <a:stretch/>
        </p:blipFill>
        <p:spPr>
          <a:xfrm>
            <a:off x="1832040" y="1981080"/>
            <a:ext cx="547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</a:rPr>
              <a:t>Diagnóstico de ausencia de circulación espontáne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 parada cardíaca se diagnostica por</a:t>
            </a:r>
            <a:r>
              <a:rPr b="0" lang="es-E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Ausencia de pulso palpable en las grandes arte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Pulso </a:t>
            </a:r>
            <a:r>
              <a:rPr b="1" lang="es-ES" sz="2400" spc="-1" strike="noStrike">
                <a:solidFill>
                  <a:srgbClr val="ff9900"/>
                </a:solidFill>
                <a:latin typeface="Comic Sans MS"/>
              </a:rPr>
              <a:t>carotídeo</a:t>
            </a:r>
            <a:r>
              <a:rPr b="1" i="1" lang="es-ES" sz="24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s el de más fácil acceso para el socorrista y persiste cuando ya han desaparecido los pulsos perifér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cc66"/>
                </a:solidFill>
                <a:latin typeface="Comic Sans MS"/>
              </a:rPr>
              <a:t>(C)</a:t>
            </a:r>
            <a:r>
              <a:rPr b="0" lang="es-ES" sz="4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s-ES" sz="4400" spc="-1" strike="noStrike">
                <a:solidFill>
                  <a:srgbClr val="ffcc66"/>
                </a:solidFill>
                <a:latin typeface="Comic Sans MS"/>
              </a:rPr>
              <a:t>Soporte circulato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Comic Sans MS"/>
              </a:rPr>
              <a:t>Localización pulso carotíde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11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RCP03" descr=""/>
          <p:cNvPicPr/>
          <p:nvPr/>
        </p:nvPicPr>
        <p:blipFill>
          <a:blip r:embed="rId2"/>
          <a:stretch/>
        </p:blipFill>
        <p:spPr>
          <a:xfrm>
            <a:off x="4419720" y="2819520"/>
            <a:ext cx="322416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Comic Sans MS"/>
              </a:rPr>
              <a:t>Activación sistema emergenci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876920" y="1981080"/>
          <a:ext cx="3200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981080"/>
                    <a:ext cx="3200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paso1" descr=""/>
          <p:cNvPicPr/>
          <p:nvPr/>
        </p:nvPicPr>
        <p:blipFill>
          <a:blip r:embed="rId3"/>
          <a:srcRect l="37030" t="0" r="0" b="0"/>
          <a:stretch/>
        </p:blipFill>
        <p:spPr>
          <a:xfrm>
            <a:off x="1143000" y="1752480"/>
            <a:ext cx="259092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BD07293_" descr=""/>
          <p:cNvPicPr/>
          <p:nvPr/>
        </p:nvPicPr>
        <p:blipFill>
          <a:blip r:embed="rId4"/>
          <a:stretch/>
        </p:blipFill>
        <p:spPr>
          <a:xfrm>
            <a:off x="990720" y="4800600"/>
            <a:ext cx="2133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Comic Sans MS"/>
              </a:rPr>
              <a:t>Aspectos ét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Imperativo técnico </a:t>
            </a:r>
            <a:r>
              <a:rPr b="0" i="1" lang="es-E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i="1" lang="es-ES" sz="2400" spc="-1" strike="noStrike">
                <a:solidFill>
                  <a:srgbClr val="ff9900"/>
                </a:solidFill>
                <a:latin typeface="Comic Sans MS"/>
              </a:rPr>
              <a:t>si puedes hazlo..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Una buena atención sanitaria requie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Comic Sans MS"/>
              </a:rPr>
              <a:t>comun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Comic Sans MS"/>
              </a:rPr>
              <a:t>diá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Grupos teóricos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posiblemente se beneficiaran de la RC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el beneficio es incier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el beneficio es improb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casi con toda seguridad no obtendrán benef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ff"/>
                </a:solidFill>
                <a:latin typeface="Comic Sans MS"/>
              </a:rPr>
              <a:t>Responsabilidad última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MÉD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5867280"/>
            <a:ext cx="1600200" cy="38124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Comic Sans MS"/>
              </a:rPr>
              <a:t>Masaje cardíaco extern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RCP08bis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505320" cy="2743200"/>
          </a:xfrm>
          <a:prstGeom prst="rect">
            <a:avLst/>
          </a:prstGeom>
          <a:ln w="0">
            <a:noFill/>
          </a:ln>
        </p:spPr>
      </p:pic>
      <p:pic>
        <p:nvPicPr>
          <p:cNvPr id="159" name="RCP09" descr=""/>
          <p:cNvPicPr/>
          <p:nvPr/>
        </p:nvPicPr>
        <p:blipFill>
          <a:blip r:embed="rId2"/>
          <a:stretch/>
        </p:blipFill>
        <p:spPr>
          <a:xfrm>
            <a:off x="4419720" y="2514600"/>
            <a:ext cx="37335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Comic Sans MS"/>
              </a:rPr>
              <a:t>Masaje cardíaco extern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Posición del socorrista y colocación de las man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Con los dedos índice y medio localizar la punta del externón (apéndice xifo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Por encima de estos dos dedos colocar el talón de la otra mano, en el tercio inferior del extern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25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Comic Sans MS"/>
              </a:rPr>
              <a:t>Masaje cardíaco extern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olocación de las man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Colocar el talón de la mano que localizaba el apéndice xifoides, paralelamente sobre la mano situada en el tercio inferior del externón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26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Comic Sans MS"/>
              </a:rPr>
              <a:t>Técnica de compres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abc.ht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12408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4419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Cargar verticalmente el peso de la parte superior de nuestro cuerpo, con los brazos rígidos, sin doblar los codos ni hacer fuerz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80-100 compresiones por min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RCP13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2843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Comic Sans MS"/>
              </a:rPr>
              <a:t>Sincronización 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Comic Sans MS"/>
              </a:rPr>
              <a:t>ventilación - compresión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4648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2 ventilaciones - 15 compres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Después de cuatro ciclos de ventilación- compresión, comprobar durante 5 segundos, si la víctima ha recuperado la respiración  y la circulación espontán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RCP20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2638440" cy="1981440"/>
          </a:xfrm>
          <a:prstGeom prst="rect">
            <a:avLst/>
          </a:prstGeom>
          <a:ln w="0">
            <a:noFill/>
          </a:ln>
        </p:spPr>
      </p:pic>
      <p:pic>
        <p:nvPicPr>
          <p:cNvPr id="173" name="RCP19" descr=""/>
          <p:cNvPicPr/>
          <p:nvPr/>
        </p:nvPicPr>
        <p:blipFill>
          <a:blip r:embed="rId2"/>
          <a:stretch/>
        </p:blipFill>
        <p:spPr>
          <a:xfrm>
            <a:off x="5715000" y="1981080"/>
            <a:ext cx="2638440" cy="1981440"/>
          </a:xfrm>
          <a:prstGeom prst="rect">
            <a:avLst/>
          </a:prstGeom>
          <a:ln w="0">
            <a:noFill/>
          </a:ln>
        </p:spPr>
      </p:pic>
      <p:pic>
        <p:nvPicPr>
          <p:cNvPr id="174" name="28" descr=""/>
          <p:cNvPicPr/>
          <p:nvPr/>
        </p:nvPicPr>
        <p:blipFill>
          <a:blip r:embed="rId3"/>
          <a:stretch/>
        </p:blipFill>
        <p:spPr>
          <a:xfrm>
            <a:off x="380880" y="1828800"/>
            <a:ext cx="2210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cp01" descr=""/>
          <p:cNvPicPr/>
          <p:nvPr/>
        </p:nvPicPr>
        <p:blipFill>
          <a:blip r:embed="rId1"/>
          <a:stretch/>
        </p:blipFill>
        <p:spPr>
          <a:xfrm>
            <a:off x="90360" y="343080"/>
            <a:ext cx="2303640" cy="1614240"/>
          </a:xfrm>
          <a:prstGeom prst="rect">
            <a:avLst/>
          </a:prstGeom>
          <a:ln w="0">
            <a:noFill/>
          </a:ln>
        </p:spPr>
      </p:pic>
      <p:pic>
        <p:nvPicPr>
          <p:cNvPr id="176" name="RCP04" descr=""/>
          <p:cNvPicPr/>
          <p:nvPr/>
        </p:nvPicPr>
        <p:blipFill>
          <a:blip r:embed="rId2"/>
          <a:stretch/>
        </p:blipFill>
        <p:spPr>
          <a:xfrm>
            <a:off x="2362320" y="304920"/>
            <a:ext cx="2220840" cy="1676160"/>
          </a:xfrm>
          <a:prstGeom prst="rect">
            <a:avLst/>
          </a:prstGeom>
          <a:ln w="0">
            <a:noFill/>
          </a:ln>
        </p:spPr>
      </p:pic>
      <p:pic>
        <p:nvPicPr>
          <p:cNvPr id="177" name="diagno1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2170080" cy="1724040"/>
          </a:xfrm>
          <a:prstGeom prst="rect">
            <a:avLst/>
          </a:prstGeom>
          <a:ln w="0">
            <a:noFill/>
          </a:ln>
        </p:spPr>
      </p:pic>
      <p:pic>
        <p:nvPicPr>
          <p:cNvPr id="178" name="RCP05" descr=""/>
          <p:cNvPicPr/>
          <p:nvPr/>
        </p:nvPicPr>
        <p:blipFill>
          <a:blip r:embed="rId4"/>
          <a:stretch/>
        </p:blipFill>
        <p:spPr>
          <a:xfrm>
            <a:off x="6705720" y="304920"/>
            <a:ext cx="2438280" cy="1753920"/>
          </a:xfrm>
          <a:prstGeom prst="rect">
            <a:avLst/>
          </a:prstGeom>
          <a:ln w="0">
            <a:noFill/>
          </a:ln>
        </p:spPr>
      </p:pic>
      <p:pic>
        <p:nvPicPr>
          <p:cNvPr id="179" name="RCP03" descr=""/>
          <p:cNvPicPr/>
          <p:nvPr/>
        </p:nvPicPr>
        <p:blipFill>
          <a:blip r:embed="rId5"/>
          <a:stretch/>
        </p:blipFill>
        <p:spPr>
          <a:xfrm>
            <a:off x="63360" y="2252520"/>
            <a:ext cx="2314800" cy="1843200"/>
          </a:xfrm>
          <a:prstGeom prst="rect">
            <a:avLst/>
          </a:prstGeom>
          <a:ln w="0">
            <a:noFill/>
          </a:ln>
        </p:spPr>
      </p:pic>
      <p:pic>
        <p:nvPicPr>
          <p:cNvPr id="180" name="RCP08bis" descr=""/>
          <p:cNvPicPr/>
          <p:nvPr/>
        </p:nvPicPr>
        <p:blipFill>
          <a:blip r:embed="rId6"/>
          <a:stretch/>
        </p:blipFill>
        <p:spPr>
          <a:xfrm>
            <a:off x="2362320" y="2286000"/>
            <a:ext cx="2160360" cy="1752480"/>
          </a:xfrm>
          <a:prstGeom prst="rect">
            <a:avLst/>
          </a:prstGeom>
          <a:ln w="0">
            <a:noFill/>
          </a:ln>
        </p:spPr>
      </p:pic>
      <p:pic>
        <p:nvPicPr>
          <p:cNvPr id="181" name="RCP09" descr=""/>
          <p:cNvPicPr/>
          <p:nvPr/>
        </p:nvPicPr>
        <p:blipFill>
          <a:blip r:embed="rId7"/>
          <a:stretch/>
        </p:blipFill>
        <p:spPr>
          <a:xfrm>
            <a:off x="4495680" y="2286000"/>
            <a:ext cx="2160720" cy="1828800"/>
          </a:xfrm>
          <a:prstGeom prst="rect">
            <a:avLst/>
          </a:prstGeom>
          <a:ln w="0">
            <a:noFill/>
          </a:ln>
        </p:spPr>
      </p:pic>
      <p:pic>
        <p:nvPicPr>
          <p:cNvPr id="182" name="abc.ht2" descr=""/>
          <p:cNvPicPr/>
          <p:nvPr/>
        </p:nvPicPr>
        <p:blipFill>
          <a:blip r:embed="rId8"/>
          <a:stretch/>
        </p:blipFill>
        <p:spPr>
          <a:xfrm>
            <a:off x="6629400" y="228600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183" name="RCP13" descr=""/>
          <p:cNvPicPr/>
          <p:nvPr/>
        </p:nvPicPr>
        <p:blipFill>
          <a:blip r:embed="rId9"/>
          <a:stretch/>
        </p:blipFill>
        <p:spPr>
          <a:xfrm>
            <a:off x="228600" y="434340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184" name="RCP20" descr=""/>
          <p:cNvPicPr/>
          <p:nvPr/>
        </p:nvPicPr>
        <p:blipFill>
          <a:blip r:embed="rId10"/>
          <a:stretch/>
        </p:blipFill>
        <p:spPr>
          <a:xfrm>
            <a:off x="3200400" y="4343400"/>
            <a:ext cx="2638440" cy="2133720"/>
          </a:xfrm>
          <a:prstGeom prst="rect">
            <a:avLst/>
          </a:prstGeom>
          <a:ln w="0">
            <a:noFill/>
          </a:ln>
        </p:spPr>
      </p:pic>
      <p:pic>
        <p:nvPicPr>
          <p:cNvPr id="185" name="RCP19" descr=""/>
          <p:cNvPicPr/>
          <p:nvPr/>
        </p:nvPicPr>
        <p:blipFill>
          <a:blip r:embed="rId11"/>
          <a:stretch/>
        </p:blipFill>
        <p:spPr>
          <a:xfrm>
            <a:off x="6019920" y="4343400"/>
            <a:ext cx="2638440" cy="2133720"/>
          </a:xfrm>
          <a:prstGeom prst="rect">
            <a:avLst/>
          </a:prstGeom>
          <a:ln w="0">
            <a:noFill/>
          </a:ln>
        </p:spPr>
      </p:pic>
      <p:pic>
        <p:nvPicPr>
          <p:cNvPr id="186" name="Rcp01" descr=""/>
          <p:cNvPicPr/>
          <p:nvPr/>
        </p:nvPicPr>
        <p:blipFill>
          <a:blip r:embed="rId12"/>
          <a:stretch/>
        </p:blipFill>
        <p:spPr>
          <a:xfrm>
            <a:off x="0" y="304920"/>
            <a:ext cx="2303640" cy="1614240"/>
          </a:xfrm>
          <a:prstGeom prst="rect">
            <a:avLst/>
          </a:prstGeom>
          <a:ln w="0">
            <a:noFill/>
          </a:ln>
        </p:spPr>
      </p:pic>
      <p:pic>
        <p:nvPicPr>
          <p:cNvPr id="187" name="Rcp01" descr=""/>
          <p:cNvPicPr/>
          <p:nvPr/>
        </p:nvPicPr>
        <p:blipFill>
          <a:blip r:embed="rId13"/>
          <a:stretch/>
        </p:blipFill>
        <p:spPr>
          <a:xfrm>
            <a:off x="0" y="304920"/>
            <a:ext cx="230364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Comic Sans MS"/>
              </a:rPr>
              <a:t>Planes de actu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c0101g02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Comic Sans MS"/>
              </a:rPr>
              <a:t>Maniobra de Heimli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4952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s la maniobra recomendada para la expulsión de cuerpos extraños alojados en la vía aér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1098" descr="Maniobra de Heimlich en el adulto"/>
          <p:cNvPicPr/>
          <p:nvPr/>
        </p:nvPicPr>
        <p:blipFill>
          <a:blip r:embed="rId1"/>
          <a:srcRect l="6671" t="0" r="0" b="12507"/>
          <a:stretch/>
        </p:blipFill>
        <p:spPr>
          <a:xfrm>
            <a:off x="609480" y="1981080"/>
            <a:ext cx="3505320" cy="2667240"/>
          </a:xfrm>
          <a:prstGeom prst="rect">
            <a:avLst/>
          </a:prstGeom>
          <a:ln w="0">
            <a:noFill/>
          </a:ln>
        </p:spPr>
      </p:pic>
      <p:pic>
        <p:nvPicPr>
          <p:cNvPr id="193" name="18152" descr="Maniobra de Heimlich en el adulto"/>
          <p:cNvPicPr/>
          <p:nvPr/>
        </p:nvPicPr>
        <p:blipFill>
          <a:blip r:embed="rId2"/>
          <a:srcRect l="6671" t="0" r="0" b="4169"/>
          <a:stretch/>
        </p:blipFill>
        <p:spPr>
          <a:xfrm>
            <a:off x="4648320" y="1981080"/>
            <a:ext cx="3276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95" name="heimlich2" descr=""/>
          <p:cNvPicPr/>
          <p:nvPr/>
        </p:nvPicPr>
        <p:blipFill>
          <a:blip r:embed="rId1"/>
          <a:srcRect l="2419" t="0" r="3037" b="2588"/>
          <a:stretch/>
        </p:blipFill>
        <p:spPr>
          <a:xfrm>
            <a:off x="6423120" y="2133720"/>
            <a:ext cx="2720880" cy="3809880"/>
          </a:xfrm>
          <a:prstGeom prst="rect">
            <a:avLst/>
          </a:prstGeom>
          <a:ln w="0">
            <a:noFill/>
          </a:ln>
        </p:spPr>
      </p:pic>
      <p:pic>
        <p:nvPicPr>
          <p:cNvPr id="196" name="heimlich3" descr=""/>
          <p:cNvPicPr/>
          <p:nvPr/>
        </p:nvPicPr>
        <p:blipFill>
          <a:blip r:embed="rId2"/>
          <a:stretch/>
        </p:blipFill>
        <p:spPr>
          <a:xfrm>
            <a:off x="2743200" y="4267080"/>
            <a:ext cx="3463920" cy="2283120"/>
          </a:xfrm>
          <a:prstGeom prst="rect">
            <a:avLst/>
          </a:prstGeom>
          <a:ln w="0">
            <a:noFill/>
          </a:ln>
        </p:spPr>
      </p:pic>
      <p:pic>
        <p:nvPicPr>
          <p:cNvPr id="197" name="heimlich1" descr=""/>
          <p:cNvPicPr/>
          <p:nvPr/>
        </p:nvPicPr>
        <p:blipFill>
          <a:blip r:embed="rId3"/>
          <a:stretch/>
        </p:blipFill>
        <p:spPr>
          <a:xfrm>
            <a:off x="533520" y="1523880"/>
            <a:ext cx="1928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Comic Sans MS"/>
              </a:rPr>
              <a:t>Conceptos esenciales en la RCP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Parada cardiorespiratoria (P.R.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Resucitación cardiopulmonar (R.C.P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Resucitación cardiopulmonar básica (R.C.P.B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oporte vital básico (S.V.B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Resucitación cardiopulmonar avanzada (R.C.P.A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oporte vital avanzado (S.V.A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Comic Sans MS"/>
              </a:rPr>
              <a:t>Importancia de la RC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3430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86184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  <a:tab algn="l" pos="4967280"/>
                <a:tab algn="l" pos="5203800"/>
                <a:tab algn="l" pos="544032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ápido acceso a un sistema integral de emerg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  <a:tab algn="l" pos="4967280"/>
                <a:tab algn="l" pos="5203800"/>
                <a:tab algn="l" pos="54403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3720" indent="-285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86184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  <a:tab algn="l" pos="4967280"/>
                <a:tab algn="l" pos="5203800"/>
                <a:tab algn="l" pos="5440320"/>
                <a:tab algn="l" pos="56768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RCP básica preco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  <a:tab algn="l" pos="4967280"/>
                <a:tab algn="l" pos="5203800"/>
                <a:tab algn="l" pos="54403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3720" indent="-285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86184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  <a:tab algn="l" pos="4967280"/>
                <a:tab algn="l" pos="5203800"/>
                <a:tab algn="l" pos="5440320"/>
                <a:tab algn="l" pos="56768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fibrilación preco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6184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  <a:tab algn="l" pos="4967280"/>
                <a:tab algn="l" pos="5203800"/>
                <a:tab algn="l" pos="54403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3720" indent="-285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86184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  <a:tab algn="l" pos="4967280"/>
                <a:tab algn="l" pos="5203800"/>
                <a:tab algn="l" pos="5440320"/>
                <a:tab algn="l" pos="56768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oporte vital avanz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cc66"/>
                </a:solidFill>
                <a:latin typeface="Comic Sans MS"/>
              </a:rPr>
              <a:t>Objetivo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ustitución (precaria) de la respiración y la circulación espontáne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ubrir el período de tiempo necesario para aplicar la RCP avanz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Mejores resultados en los 4 primeros minutos de evolución y 8 antes de la avanz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Comic Sans MS"/>
              </a:rPr>
              <a:t>¿Cuándo debe aplicarse la RCP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9900"/>
                </a:solidFill>
                <a:uFillTx/>
                <a:latin typeface="Comic Sans MS"/>
              </a:rPr>
              <a:t>Siempre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que se diagnostique una PC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sta regla tiene importantes excepciones de forma que </a:t>
            </a:r>
            <a:r>
              <a:rPr b="0" lang="es-ES" sz="2400" spc="-1" strike="noStrike" u="sng">
                <a:solidFill>
                  <a:srgbClr val="ff9900"/>
                </a:solidFill>
                <a:uFillTx/>
                <a:latin typeface="Comic Sans MS"/>
              </a:rPr>
              <a:t>no debe aplicarse s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Paciente presenta signos de muerte biológ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Si la parada  cardíaca (P.C.) es consecuencia de una enfermedad incurable o proceso termi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PC lleva más de 10 minutos de evolución sin haber sido aplicada ningún tipo de maniobra de RC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Cuando la familia o representante legal comunique de forma fehaciente el deseo de la víctima de no reanim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Cuando el paciente recupera la circulación espontán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Cuando habiendo iniciado la RCP, se confirma que la PC es consecuencia de enfermedad incurable o termi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Si se confirma que las maniobras se instauraron con un retraso superior a 10 minutos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xcepto en ahogamientos, hipotermia o intoxicación por barbitúri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Cuando el médico responsable  de la parada, considere a ésta irreversible, por ausencia de actividad eléctrica cardíaca durante un mínimo de 20 minutos,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xcepto en casos de hipoter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Comic Sans MS"/>
              </a:rPr>
              <a:t>¿Cuándo debe suspenderse la RCP?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cc66"/>
                </a:solidFill>
                <a:latin typeface="Comic Sans MS"/>
              </a:rPr>
              <a:t>Técnicas RCP básic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Comic Sans MS"/>
              </a:rPr>
              <a:t>Análisis de la situ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mprobar si existe algún tipo de peligro para el pa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mprobar conscienci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¿responde a estímulos verbales, táctiles.....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responde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Comic Sans MS"/>
              </a:rPr>
              <a:t>Colocación de la víctima en posición RCP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Boca arri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Cabeza, hombros y brazos al mismo nivel que el cuer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Superficie lisa y fi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Alerta a posibles traumatismos cervicales o crane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Rcp01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35304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2:00:25Z</dcterms:created>
  <dc:creator>dotefer</dc:creator>
  <dc:description/>
  <dc:language>en-US</dc:language>
  <cp:lastModifiedBy>Invitado</cp:lastModifiedBy>
  <dcterms:modified xsi:type="dcterms:W3CDTF">2003-06-24T15:28:02Z</dcterms:modified>
  <cp:revision>6</cp:revision>
  <dc:subject/>
  <dc:title>Soporte Vital Básico</dc:title>
</cp:coreProperties>
</file>