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9D7C-AA75-4E84-B86A-174ED3C081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amma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CG: PATRÓN S1Q3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gno de Westermark (olioemia foc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47C-E31A-4364-9E9E-025F4275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8C7-420B-455C-9791-DFB6A98D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099-2BC2-406F-A5FC-EA6F442E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3B1-192E-4A56-B53A-3C7707DB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E74D-927C-4B9C-9AFF-B06AB593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80BD-DD4E-48FE-8F68-984EAEB9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7140-C4C6-41F9-A6FE-2F8B61A2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6DD0-75E6-40B6-9795-01AF91E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E3C2-AC89-437A-A58B-FF64D671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BF50-046D-4B81-8003-5459394A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FC0C-D8F2-4358-AFC4-883FA6F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50A-229C-4153-A293-FA74E1AC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7E88-C802-4751-AC4C-D3BC6D4C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38D8-0240-4667-BBDC-122F894E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57B1-3A0C-4B7F-9D82-B77C366F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FB8E-1A95-4238-AF8F-F7474E89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3BC0-0393-486A-AAC3-BD4C5A91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370-962D-4367-B0A1-57F17F33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8B7-145F-41FA-996D-BE452AD6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9AF-DEAC-487F-9962-DF5202F4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D8D-7E0A-4C2C-A249-C3F35E98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A8A-3B7D-4A5B-939A-D70A3582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6AC-C045-41D1-85E6-D61AAD07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5F4-D19F-4D25-9F6E-61D47951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DD4F-AF5E-42D8-8257-7D656F5A36DF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9DB4-778D-4FD6-A022-2C642DDB7130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137160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ffffcc"/>
                </a:solidFill>
                <a:latin typeface="Times New Roman"/>
              </a:rPr>
              <a:t>T.E.P.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297180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ANEJO EN URGENC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BELEN CARTIM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ep3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n-129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4451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380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GAMMAGRAFIA PULMONAR DE PERFUS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ep4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ep6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53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imes New Roman"/>
              </a:rPr>
              <a:t>TRATAMIENT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828800"/>
            <a:ext cx="87631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OXIGENOTERAP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entimask al 50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RATAMIENTO SEDANTE Y ANALGES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loruro mórfico 2 mg / min hasta un máximo de 10 mg / 4-6 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COAGUL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eparina sódica 5000 UI en bolo iv seguida de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fusión: 4.8 mg/kg/ 24 h durante 7 d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CO durante 6 meses míni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Imagen-132" descr=""/>
          <p:cNvPicPr/>
          <p:nvPr/>
        </p:nvPicPr>
        <p:blipFill>
          <a:blip r:embed="rId1"/>
          <a:stretch/>
        </p:blipFill>
        <p:spPr>
          <a:xfrm>
            <a:off x="4419720" y="3962520"/>
            <a:ext cx="301788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380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ONTRAINDICACIONES DE LA HEPARINIZAC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289160"/>
            <a:ext cx="3429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cc"/>
                </a:solidFill>
                <a:uFillTx/>
                <a:latin typeface="Times New Roman"/>
              </a:rPr>
              <a:t>ABSOLU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Ulcus péptico activ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esión visceral o 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emorragias a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AS&gt;12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docarditis bacteriana/pericardit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B cavitada activ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Nefropatía gr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irugía en los últimos 14 d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1676520"/>
            <a:ext cx="38862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cc"/>
                </a:solidFill>
                <a:uFillTx/>
                <a:latin typeface="Times New Roman"/>
              </a:rPr>
              <a:t>RELA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ernia de hi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ectocolitis hemorrág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ayores de 75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Ulcus péptico activ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epatopatía cr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emopatías con trastornos de la coagu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n-1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1295280"/>
            <a:ext cx="5715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MÁGENES OBTENIDAS DEL CD 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URGENCIAS RESPIRATORIAS EDITADO POR ADALIA FARMA Y PATROCINADO POR LABORATORIOS AVENT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5335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DEFINIC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057400"/>
            <a:ext cx="739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bstrucción de una arteria pulmonar o una de sus ramas por  un émbolo que en un 90-95% de los casos procede de un trombo venoso de las EEII y más raramente de trombos venosos de otras localizaciones o presentan otras localizaci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3808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FACTORES DE RIESG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371600"/>
            <a:ext cx="746748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SIS VENO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AYORES DE 40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MOVILIZACION PROLONG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RAUMATISMOS O CIRUGIA MAY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OS DE HIPERCOAGULABIL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NEOPLASI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C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ARTO Y PUERPER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ECEDENTES DE TEP O TV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4572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FISIOPATOLOG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905120"/>
            <a:ext cx="3886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cc"/>
                </a:solidFill>
                <a:uFillTx/>
                <a:latin typeface="Times New Roman"/>
              </a:rPr>
              <a:t>ALT RESPIRA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Zona de pulmón ventilada pero no perfund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iperventi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roncoconstri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ipoxem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farto pulmon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19051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cc"/>
                </a:solidFill>
                <a:uFillTx/>
                <a:latin typeface="Times New Roman"/>
              </a:rPr>
              <a:t>ALT HEMODINAM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umento de RV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obrecarga V dere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isminución de precarg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4572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imes New Roman"/>
              </a:rPr>
              <a:t>MANIFESTACIONES CLINICA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75248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676520"/>
            <a:ext cx="7924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sde asintomática hasta la muerte súbi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cc"/>
                </a:solidFill>
                <a:uFillTx/>
                <a:latin typeface="Times New Roman"/>
              </a:rPr>
              <a:t>SINTOMA MAS FRECUENTE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parición BRUSCA de DISNEA o Dolor torácico pleurític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cc"/>
                </a:solidFill>
                <a:uFillTx/>
                <a:latin typeface="Times New Roman"/>
              </a:rPr>
              <a:t>SIGNO MAS HABITUA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AQUIPNE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335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PRUEBAS COMPLEMENTAR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600200"/>
            <a:ext cx="861048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Font typeface="SPSS Marker Set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ioquímica: Troponina moderadamente elevad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SPSS Marker Set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agulación: DIMERO D. Muy sensible. Si es negativo excluye TE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SPSS Marker Set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GSA: Hipoxemia + Hipocapnia + alcalosis respirator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SPSS Marker Set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CG: Taquicardia sinusal. Lo más característic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trón S1Q3T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SPSS Marker Set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X Tórax: lo más frecuente es que sea normal, pero existen signos típic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SPSS Marker Set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ep1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ep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1447920"/>
            <a:ext cx="83059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AMMAGRAFIA PULMONAR DE PERFUSI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rueba más sensible. Si es normal excluye TE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AC HELICOIDAL DE TORAX CON CONTRAST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evada especificidad: émbolos &gt; 4 mm. Especialmente indicada en pacientes hemodinamicamente inestables o con alteraciones en la R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RTERIOGRAFIA PULMONAR SELECTIV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Unica que asegura el diagnóstico de TE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7600" y="38088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imes New Roman"/>
              </a:rPr>
              <a:t>DIAGNOST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11:14:37Z</dcterms:created>
  <dc:creator>Unknown User</dc:creator>
  <dc:description/>
  <dc:language>en-US</dc:language>
  <cp:lastModifiedBy>.</cp:lastModifiedBy>
  <dcterms:modified xsi:type="dcterms:W3CDTF">2003-11-27T20:33:57Z</dcterms:modified>
  <cp:revision>5</cp:revision>
  <dc:subject/>
  <dc:title>Presentación de PowerPoint</dc:title>
</cp:coreProperties>
</file>