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B31-B485-4F81-B13A-9D8F0788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E88-B8DA-4577-AEB7-12413E3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760-C98B-40EC-B691-4D1180AD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66E-491F-4FFF-9EF6-887E1DCA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6B4-C29F-448B-AAA9-AE183B63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1F5-EE2A-4B0A-A218-3B9C3310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E61-3BA5-436F-906E-94E15B68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0CF-49A0-4DE9-9F75-8EAB04DF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8EC-9D2E-427A-889F-F2940709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864-4CC1-4BB8-BCF3-BDF7000A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229-ECED-44C5-81CA-D8109EB6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39E-EE00-48EE-8430-43CCB29B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0032-1724-409F-8B64-A1B284240C49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0960"/>
            <a:ext cx="7772400" cy="1152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676520"/>
            <a:ext cx="7772400" cy="2438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RAUMA PEDIÁTR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337-2F80-4A81-8782-F41B0EE4DC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ENTILACIÓ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ualizar movimientos torácicos y palpar tór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obar frecuencia y calidad respi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tilar y oxigenar adecuad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r y trat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strucción de vía aé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umotórax a te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motórax mas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órax ines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ponamiento cardía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B37-727D-48A1-BADC-CDE0C7C1AD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ENTILACIÓ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maño máscara adecu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n tidal: 10-15ml/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cuencia ventilatoria ajustada a la eda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ctante: 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ño: 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olescente: 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ilidad del árbol bronqu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0,85 no más de 6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N.G. u orogástrica si sospecha de Fx base crán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866-FAB5-411E-8D8A-6901C8418D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620120" cy="1371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IRCULACIÓN Y CONTROL DE HEMORRAGI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OR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cuencia cardía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ión arter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 mmHg en neona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0 mmHg lact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0+(2xedad en años) de 1 a 10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0 e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0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cia radial o pedio P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femoral PAS&gt;50&lt;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6AE-7BC1-4187-90E2-20F921120A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6705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usión cutá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usión cerebral  PPC = PAM – P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leno capi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lidez y frial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eración de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cuencia respir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usión re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acceso venoso y la reposición de volumen se expondrán en otro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E28-477C-4654-A909-0F97ACE42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371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ÁLCULO VOLUMEN SANGUÍNEO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 ML/KG o 10% peso corporal en prematu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 ML/KG o 9% peso corporal en lacta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 ML/KG o 8% peso corporal en niñ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 – 70 ML/KG o 6-7% peso corporal en adolesc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915-1644-4F29-A9C3-8AC8B84955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371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ALORACIÓN NEUROLÓGICA INICIA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valoran aspectos glob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vel de concienc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c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nubil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a o descereb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ión pup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190-684F-4763-A7A2-2FB269B986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447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ALORACIÓN NEUROLÓGICA SECUNDARI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.E.N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sg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pi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ión mo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4191120"/>
            <a:ext cx="743904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D3C-AC7E-443C-9DEE-6A9D76580F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OSICIÓN Y CONTROL AMBIENTA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sición del cuerpo para hacer un examen rápido y superficial de las lesiones que no deben demorarse hasta el 2º examen fís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hipotermia que hace al niño más refractario al tratamiento y afectar al S.N.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770-6392-47A8-830B-A5AE38938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2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GUNDO EXAMEN FÍSICO Y TRIAG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oración más exhaustiva de cabeza a extrem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ÍNDICE TRAUMA PEDIÁT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192" t="2445" r="2384" b="1206"/>
          <a:stretch/>
        </p:blipFill>
        <p:spPr>
          <a:xfrm>
            <a:off x="1371600" y="4168800"/>
            <a:ext cx="6172200" cy="21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857-03A1-4D53-B189-78CC3194D1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RAUMA CRANEA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p y fractura de base de cráne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ntanela abierta hasta los 18 meses de 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E con vómitos no es significa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or frecuencia de crisis comi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tamien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mentar normovol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itar valores de P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BD8-15C1-4894-A164-FD415BFBBB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considera paciente pediátrico politraumatizado a aquel cuyas lesiones involucran dos o más órganos o uno o más sist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accidente de tráfico es la causa más frecuente de politraumatismo y mortalidad infant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 accidentes en general son la 1ª causa de muerte entre el año y los 18 años de v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05C-9233-4C94-B95A-54D8ACAE66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RAUMA RAQUIMEDULA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ar lesión mientras no se demuestre lo contr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x normales no excluyen lesión med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bla de inmovilización pediátrica o adaptar una de adul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7A5-B4E0-4F96-8F96-DAD6A32C8B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RAUMA TORÁCICO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ª causa de muerte tras los tx. Cran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iones con RI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motórax a ten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otórax abie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otórax m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et cos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ponamiento cardía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186-5B8D-48A1-99D1-19F9D6BB1E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RAUMA ABDOMINA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cuentes y multiorgá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ción con traumatismos torácicos ba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 órganos más lesionados son hígado, bazo y riñ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tacto rectal es imprescindible y siempre debe preceder a la colocación de sonda uret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528-7F3D-4FF3-BA3F-0D4580A0E9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RAUMA MUSCULOESQUELÉTICO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cuentes aunque no suelen asociarse a mayor riesgo vi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lesiones de mayor compromiso 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cturas de pelvis con hemorragia pro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iones ar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índromes de aplas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4C3-3611-482C-BCCF-5E3E6283AD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ORTALIDAD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APA INICIAL: Segundos o minutos tras el accid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APA INTERMEDIA: Unas horas o pocos días tras el accid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APA TARDÍA: Esencialmente hospitala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B89-1C8C-47E9-82D5-3D8EC6DF9A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981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RACTERÍSTICAS ANATÓMICAS Y FISIOLÓGICAS DEL NIÑO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tamaño del cuerpo determina que por unidad de superficie exista una mayor concentración de órgan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or elasticidad y flexibilidad de los tej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 huesos están en proceso de calcificación y núcleos de cre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masa craneofacial es mayor que en el adul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lación superficie/masa corporal es mayor cuanto más pequeño es el ni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CE0-E8B0-4477-BFCE-BFBDBF6D66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or cantidad de grasa, piel fina y rica vascular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 signos y síntomas de shock son manifestaciones tardí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POTERMIA-HIPOXIA-HIPOVOL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ÑO SN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C30-2E34-4ACA-86F4-ED98A3B893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ALORACIÓN PRIMARI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ÍA AÉREA CON CONTROL CERV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IL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RCUL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DO NEURO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SICIÓN Y CONTROL AMBI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729-2151-4475-82D1-2A9900AC9E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12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ÍA AÉREA CON CONTROL CERVICA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ACTERÍSTICAS ANATÓMIC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vía aérea del niñ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ás pequeñ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lengua es más grande con relación al maxi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ígdalas hipertróf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ringe más al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inge más alta y anteri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erdas vocales más cortas y cónca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Ángulo epiglotis-cuerdas más agu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áquea variable en calibre y longi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tílagos traqueales en proceso de madu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 más estrecha a nivel del cartílago cricoi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052-3468-4B43-B26D-A66BB352CF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CIÓN INICIAL Y MANEJO DE LA VÍA AÉ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niño que llora, llama a sus padres o responde coherentemente podemos suponer que tiene la vía aérea perm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agitación y cianosis indican hipox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estupor indica hipercap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nquidos (hipofaringe), estridor o disfonía (laringe), sibilancias y disnea pueden indicar obstrucción de la vía aé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CCC-9F2B-4268-A3EF-1657B2183F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1760" y="6094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OBRAS DE APERTURA DE LA VÍA AÉR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ción mandib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piración de secre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ula orofaríng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T o mascarilla facial con bolsa resucit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ción cricotiroide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72C-9DD5-4FFA-88F4-4831D7EDFB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1:51:41Z</dcterms:created>
  <dc:creator>J. A. Diaz</dc:creator>
  <dc:description/>
  <dc:language>en-US</dc:language>
  <cp:lastModifiedBy>J. A. Diaz</cp:lastModifiedBy>
  <dcterms:modified xsi:type="dcterms:W3CDTF">2003-02-07T18:24:37Z</dcterms:modified>
  <cp:revision>7</cp:revision>
  <dc:subject/>
  <dc:title>TRAUMA PEDIÁTRICO</dc:title>
</cp:coreProperties>
</file>