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E682-120A-4BEC-80AF-4DDC4BF59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2AAF-BAA2-43E6-B10B-EFD462878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7881-2A93-435A-930C-774DD6C85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8CA0-E820-47C8-95B5-EBF80B792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BAED-E007-4EA9-95B7-5656B797A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C711-9B0C-434F-9D43-6BFCBA481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DEF7-4FF0-4F82-96E3-AC60114CB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AAAF-4DC7-4FE8-A055-20D7AAA0C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83AF-FD45-45AE-B6A2-E3D721654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3466-F2C9-4B03-AF5A-8F875072C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8825-6AEB-427D-A588-A05953C9A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8A3D-4E03-4CC0-9023-9BC3C2361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1C4E6-A3CE-47D2-8A4D-E23171563CF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fond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038480" y="228600"/>
            <a:ext cx="4762800" cy="32767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4343400"/>
            <a:ext cx="3962520" cy="2286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66ff"/>
                </a:solidFill>
                <a:latin typeface="Comic Sans MS"/>
              </a:rPr>
              <a:t>TRIA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038120" y="3428640"/>
            <a:ext cx="4800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ff"/>
                </a:solidFill>
                <a:latin typeface="Comic Sans MS"/>
              </a:rPr>
              <a:t>Método para la </a:t>
            </a:r>
            <a:r>
              <a:rPr b="0" i="1" lang="en-US" sz="4000" spc="-1" strike="noStrike">
                <a:solidFill>
                  <a:srgbClr val="3366ff"/>
                </a:solidFill>
                <a:latin typeface="Comic Sans MS"/>
              </a:rPr>
              <a:t>clasificación</a:t>
            </a:r>
            <a:r>
              <a:rPr b="0" lang="en-US" sz="4000" spc="-1" strike="noStrike">
                <a:solidFill>
                  <a:srgbClr val="3366ff"/>
                </a:solidFill>
                <a:latin typeface="Comic Sans MS"/>
              </a:rPr>
              <a:t> de </a:t>
            </a:r>
            <a:r>
              <a:rPr b="0" i="1" lang="en-US" sz="4000" spc="-1" strike="noStrike">
                <a:solidFill>
                  <a:srgbClr val="3366ff"/>
                </a:solidFill>
                <a:latin typeface="Comic Sans MS"/>
              </a:rPr>
              <a:t>heridos</a:t>
            </a:r>
            <a:r>
              <a:rPr b="0" lang="en-US" sz="4000" spc="-1" strike="noStrike">
                <a:solidFill>
                  <a:srgbClr val="3366ff"/>
                </a:solidFill>
                <a:latin typeface="Comic Sans MS"/>
              </a:rPr>
              <a:t> en </a:t>
            </a:r>
            <a:r>
              <a:rPr b="0" i="1" lang="en-US" sz="4000" spc="-1" strike="noStrike">
                <a:solidFill>
                  <a:srgbClr val="3366ff"/>
                </a:solidFill>
                <a:latin typeface="Comic Sans MS"/>
              </a:rPr>
              <a:t>urgencias emergencia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"/>
          <p:cNvSpPr/>
          <p:nvPr/>
        </p:nvSpPr>
        <p:spPr>
          <a:xfrm>
            <a:off x="2895480" y="2362320"/>
            <a:ext cx="53352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380880"/>
            <a:ext cx="533520" cy="83844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"/>
          <p:cNvSpPr/>
          <p:nvPr/>
        </p:nvSpPr>
        <p:spPr>
          <a:xfrm>
            <a:off x="2895480" y="1371600"/>
            <a:ext cx="53352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3429000"/>
            <a:ext cx="609480" cy="762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1219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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TRIA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No es posible dar normas fijas para realizar triaj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* DEPENDERÁ DE 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- Tipo y magnitud del desast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- Número y calidad de herid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- Cantidad y calidad de recurs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- Características del terren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- Características de los herid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JC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E2B7-0610-414F-B928-C6B045558CD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TRIA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Norm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- Evitar evacuaciones indiscriminad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- No retener a una víctima para realizar un tratamiento más complet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- Nunca evacuar en sentido retrógrad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- Se realizará triaje en cada punto de la cadena asistenci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JC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3F64-0F75-4453-BD09-79BE27F6785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TRIA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La conservación de la vida tiene preferencia sobre la de un miembro y la función sobre el defecto anatómico”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JC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87A5-C046-4632-999A-CF536EACA82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Comic Sans MS"/>
              </a:rPr>
              <a:t>TRIA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Las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clasificaciones se basan en el tiempo que una víctima puede demorar su asistencia = plazo terapéutic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99"/>
              </a:spcBef>
              <a:buClr>
                <a:srgbClr val="00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Las principales amenazas para la vida son por tener el plazo terapéutico mas corto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* Axfixi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* Hemorragia y shoc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JC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94A2-A394-4FD1-B1D9-885AC33BB44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TRIA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Debemos identificar pacientes críticos que precisan reanimación inmediat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El triaje debe seguir unos criterios establecidos según las características del desastre y debe ser elástico/adaptab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JC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0B53-1F05-45E4-9790-A3B47E54D07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Comic Sans MS"/>
              </a:rPr>
              <a:t>TRIA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Actuación 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El triaje se realiza mediante un reconocimiento y evaluación del estado de la víctima mediante métodos sencill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JC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EABA-0C95-4364-8618-7D5A5021B41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Comic Sans MS"/>
              </a:rPr>
              <a:t>TRIA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Actuación I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Se hará una valoración funcional de la conciencia, respiración y sistema cardiocirculatorio( identificar causas de riesgo). Después se hará una clasificación lesiona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JC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BAD3-D657-4F56-96FB-F1D9D85B024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TRIA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os índices de valoración pronóstica pueden ayudar a la hora de clasificar a la víctim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El más utilizado es el Trauma Score de Champion o el Trauma Score Revisad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Se basa en la valoración de cuatro variables completado por la escala de Glasgow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En el area de rescate son complicados de realiza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Se puntua de 0 a 1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JC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17B9-5407-401F-906F-6BB4A33EA75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TRIAGE</a:t>
            </a:r>
            <a:br>
              <a:rPr sz="4400"/>
            </a:b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Trauma Score Revisad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Glasgow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PAS(mm Hg)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      FR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4=13-15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4= &gt;89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      4=10-29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3=9-12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3=75-89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3= &gt;29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2=6-8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2=50-75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2=6-9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1=4-5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1=1-49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1=1-5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0=3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0=0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0=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*Criterio de gravedad: la suma será &lt; 1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JC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64FC-AB4D-44BF-A942-835E92C2EED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Comic Sans MS"/>
              </a:rPr>
              <a:t>TRIA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Tipos de índices de gravedad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- Fisiológica: Glasgow Coma Score, Indice de shock, RTS Revised Trauma Scor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- Anatómica: ISS Injury Severity Score, ICISS Injury Severity Method Based on International Classification Diseased,Regla de los 9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JC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D88A-94C0-48E9-9648-6645B59D02F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ff"/>
                </a:solidFill>
                <a:latin typeface="Comic Sans MS"/>
              </a:rPr>
              <a:t>TRIAGE</a:t>
            </a:r>
            <a:br>
              <a:rPr sz="4400"/>
            </a:br>
            <a:r>
              <a:rPr b="0" lang="en-US" sz="4400" spc="-1" strike="noStrike">
                <a:solidFill>
                  <a:srgbClr val="ffccff"/>
                </a:solidFill>
                <a:latin typeface="Comic Sans MS"/>
              </a:rPr>
              <a:t>Palabra francesa que significa </a:t>
            </a:r>
            <a:r>
              <a:rPr b="1" i="1" lang="en-US" sz="4400" spc="-1" strike="noStrike">
                <a:solidFill>
                  <a:srgbClr val="ffccff"/>
                </a:solidFill>
                <a:latin typeface="Comic Sans MS"/>
              </a:rPr>
              <a:t>elegir o clasifica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ffccff"/>
                </a:solidFill>
                <a:latin typeface="Comic Sans MS"/>
              </a:rPr>
              <a:t>Se aplica al medio sanitario desde la medicina militar ante el gran número de bajas en combate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ffccff"/>
                </a:solidFill>
                <a:latin typeface="Comic Sans MS"/>
              </a:rPr>
              <a:t>Desde hace algún tiempo se incluye en el concepto la dispensación de atención: asegurar la via aérea, control de las hemorragias externas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JC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CA50-7246-4C42-B767-4C865C99545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Comic Sans MS"/>
              </a:rPr>
              <a:t>TRIA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Comic Sans MS"/>
              </a:rPr>
              <a:t>Tipos de índices de graveda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Comic Sans MS"/>
              </a:rPr>
              <a:t>- Mixta(variables fisiológicas, anatómicas, bioquímicas, situación previa al traumatismo, mecanismo traumático)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Comic Sans MS"/>
              </a:rPr>
              <a:t>CRAM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Comic Sans MS"/>
              </a:rPr>
              <a:t>P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Comic Sans MS"/>
              </a:rPr>
              <a:t>APACH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JC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F463-9C68-4D11-A4D1-39AB0BC1D18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Indices de gravedad útiles en clasificación de multiples herid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Valide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Simplicida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Factores simpl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Utilidad en traum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Comic Sans MS"/>
              </a:rPr>
              <a:t>TRIA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JC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7821-5B44-4822-9D9C-FA3DCBCB252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Comic Sans MS"/>
              </a:rPr>
              <a:t>TRIA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GCS Escala de Coma de Glasgow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De 3 a 15 puntos, inversamente proporcion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Tres parámetros independientes: Mejor respuesta verbal y motora + apertura ocula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Descripción objetiva de la reacción del pacien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Valora gravedad del T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Componente de otros índices: RTS, TRISS y APACH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JC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8785-8CC3-472E-AD68-86A46645D21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Comic Sans MS"/>
              </a:rPr>
              <a:t>TRIAGE</a:t>
            </a:r>
            <a:br>
              <a:rPr sz="3600"/>
            </a:br>
            <a:r>
              <a:rPr b="0" lang="es-ES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s-ES" sz="3200" spc="-1" strike="noStrike">
                <a:solidFill>
                  <a:srgbClr val="ffff00"/>
                </a:solidFill>
                <a:latin typeface="Comic Sans MS"/>
              </a:rPr>
              <a:t>GCS Escala de Coma de Glasgow</a:t>
            </a: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104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omic Sans MS"/>
              </a:rPr>
              <a:t>PRUEBA               RESPUESTA            PUNTUAC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Comic Sans MS"/>
              </a:rPr>
              <a:t>*</a:t>
            </a: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Apertura ocular          Espontánea                                     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Ocular                        Al estímulo verbal                           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                                     </a:t>
            </a: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Al dolor                                          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                                     </a:t>
            </a: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Nula                                               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*Mejor respuesta        Orientada                                        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verbal                        Confusa                                           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                                    </a:t>
            </a: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Inapropiada                                     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                                    </a:t>
            </a: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Incomprensible                                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                                    </a:t>
            </a: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Nula                                                 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*Mejor respuesta        Obedece órdenes                             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Motora                       Localiza el dolor                               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                                    </a:t>
            </a: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Retirada al dolor                              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                                    </a:t>
            </a: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Flexión al dolor inapropiada              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                                    </a:t>
            </a: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Extensión al dolor                             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                                    </a:t>
            </a: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Nula                                                  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                            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JC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36FD-EB7C-4489-836A-592AC7DBB87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Comic Sans MS"/>
              </a:rPr>
              <a:t>TRIA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Comic Sans MS"/>
              </a:rPr>
              <a:t>Escala de Coma de Glasgow GC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cc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Comic Sans MS"/>
              </a:rPr>
              <a:t>50% de TCE (GCS 9 a 12) TAC anorma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cc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Comic Sans MS"/>
              </a:rPr>
              <a:t>TCE con menos de 9 indicación de intubació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cc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Comic Sans MS"/>
              </a:rPr>
              <a:t>Divide en graves (menor o igual a 8), moderados (9 a 13) y leves ( 14 y 15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cc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Comic Sans MS"/>
              </a:rPr>
              <a:t>Está afectada por: sesgo observador, período,drogas,inestabilidad hemodinámica o insuficiencia respiratóri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JC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CA4D-0299-41F9-A6CA-60CD5B8261A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ff"/>
                </a:solidFill>
                <a:latin typeface="Comic Sans MS"/>
              </a:rPr>
              <a:t>TRIAGE</a:t>
            </a:r>
            <a:br>
              <a:rPr sz="4400"/>
            </a:br>
            <a:r>
              <a:rPr b="0" lang="en-US" sz="4400" spc="-1" strike="noStrike">
                <a:solidFill>
                  <a:srgbClr val="ffccff"/>
                </a:solidFill>
                <a:latin typeface="Comic Sans MS"/>
              </a:rPr>
              <a:t>Indice de shock o de Allgow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560" y="22093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Comic Sans MS"/>
              </a:rPr>
              <a:t>Cociente de la frecuencia cardiaca expresada en latidos/minuto y la presión arterial sistólica expresada en milímetros de mercuri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Comic Sans MS"/>
              </a:rPr>
              <a:t>De 0,5 a 0,7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Comic Sans MS"/>
              </a:rPr>
              <a:t>Por encima de 0,9 se asocia a alteración del ventrículo izquierd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Comic Sans MS"/>
              </a:rPr>
              <a:t>Condicionado al tiemp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JC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129E-05E4-4844-B393-75C52AD88D4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Comic Sans MS"/>
              </a:rPr>
              <a:t>TRIA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Comic Sans MS"/>
              </a:rPr>
              <a:t>RTS Revised Trauma Sco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Comic Sans MS"/>
              </a:rPr>
              <a:t>Frecuencia respiratória, tensión arterial sistólica y Glasgow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Comic Sans MS"/>
              </a:rPr>
              <a:t>Relación inversa con la graveda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Comic Sans MS"/>
              </a:rPr>
              <a:t>Gran poder predictorio sobre mortalida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JC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FDB9-5476-448C-959B-CD8909EFAAB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Comic Sans MS"/>
              </a:rPr>
              <a:t>TRIAGE</a:t>
            </a:r>
            <a:br>
              <a:rPr sz="4400"/>
            </a:br>
            <a:r>
              <a:rPr b="0" lang="en-US" sz="3600" spc="-1" strike="noStrike">
                <a:solidFill>
                  <a:srgbClr val="00ff00"/>
                </a:solidFill>
                <a:latin typeface="Comic Sans MS"/>
              </a:rPr>
              <a:t>CRAM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Circulación   Respiración   Abdomen/Tórax   Motor   </a:t>
            </a: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Sonid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2=RC normal 2=normal       2=blandos</a:t>
            </a: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      2=normal     2=normal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o PAS&gt;10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1=RC lento    1=anormal      1=tensos           1=resp         1=confus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o 85&lt;PAS&lt;100</a:t>
            </a: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    al dol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0=no RC        0=ausente     0=abdomen       0=no resp    0=inteligibl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o PAS&lt;85</a:t>
            </a: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         duro,</a:t>
            </a: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     ausent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         </a:t>
            </a: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tóra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         </a:t>
            </a: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inestab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         </a:t>
            </a: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o lesió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ff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penetrante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*Criterio de gravedad: suma &lt; 9</a:t>
            </a: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JC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FED4-9597-4363-AA04-240BC913E7F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Comic Sans MS"/>
              </a:rPr>
              <a:t>TRIA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ff00"/>
                </a:solidFill>
                <a:uFillTx/>
                <a:latin typeface="Comic Sans MS"/>
              </a:rPr>
              <a:t>CRAM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Escala mixt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Circulación, respiración, abdomen, tórax, movimientos y sonid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De 0 a 2 cada variable, de 0 a 10 inversamenta proporcional con la graveda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Mayor sencillez que RTS, mayor subjetivida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ff00"/>
                </a:solidFill>
                <a:uFillTx/>
                <a:latin typeface="Comic Sans MS"/>
              </a:rPr>
              <a:t>ISS Injury Severity Sco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Valora gravedad lesión anatómic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Sólo puntua lesión más grave de cada zona anatómic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JC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5A2E-152A-4FDC-8397-78D410AC387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Comic Sans MS"/>
              </a:rPr>
              <a:t>TRIAGE</a:t>
            </a:r>
            <a:br>
              <a:rPr sz="4400"/>
            </a:br>
            <a:r>
              <a:rPr b="0" lang="en-US" sz="4400" spc="-1" strike="noStrike">
                <a:solidFill>
                  <a:srgbClr val="00ff00"/>
                </a:solidFill>
                <a:latin typeface="Comic Sans MS"/>
              </a:rPr>
              <a:t>Característic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Es el primer paso, por delante de la estabilización y evacuació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Rápido, completo, preciso y segur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Realizado por personal sanitário ENTRENAD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Hecho con serenidad, de forma organizada y con información de los recursos disponib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Realizado mediante métodos muy sencill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Es un proceso dinámico (revisar continuamente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JC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12A2-3FAA-4554-8AB3-285956D3705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09480" y="837720"/>
            <a:ext cx="8229600" cy="2667240"/>
          </a:xfrm>
          <a:prstGeom prst="rect">
            <a:avLst/>
          </a:prstGeom>
          <a:noFill/>
          <a:ln w="28440">
            <a:solidFill>
              <a:srgbClr val="ccccff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ccff"/>
                </a:solidFill>
                <a:latin typeface="Comic Sans MS"/>
              </a:rPr>
              <a:t>Triar</a:t>
            </a:r>
            <a:r>
              <a:rPr b="0" lang="en-US" sz="3600" spc="-1" strike="noStrike">
                <a:solidFill>
                  <a:srgbClr val="ccccff"/>
                </a:solidFill>
                <a:latin typeface="Comic Sans MS"/>
              </a:rPr>
              <a:t>: Separa en grupos que usan medios y tratamientos distinto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ccff"/>
                </a:solidFill>
                <a:latin typeface="Comic Sans MS"/>
              </a:rPr>
              <a:t>Triage(del francés)</a:t>
            </a:r>
            <a:r>
              <a:rPr b="0" lang="en-US" sz="3600" spc="-1" strike="noStrike">
                <a:solidFill>
                  <a:srgbClr val="ccccff"/>
                </a:solidFill>
                <a:latin typeface="Comic Sans MS"/>
              </a:rPr>
              <a:t>: Clasificar</a:t>
            </a:r>
            <a:r>
              <a:rPr b="0" lang="en-US" sz="3200" spc="-1" strike="noStrike">
                <a:solidFill>
                  <a:srgbClr val="cccc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4" name="utils053" descr=""/>
          <p:cNvPicPr/>
          <p:nvPr/>
        </p:nvPicPr>
        <p:blipFill>
          <a:blip r:embed="rId1"/>
          <a:stretch/>
        </p:blipFill>
        <p:spPr>
          <a:xfrm>
            <a:off x="2895480" y="3657600"/>
            <a:ext cx="38102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Comic Sans MS"/>
              </a:rPr>
              <a:t>TRIAGE</a:t>
            </a:r>
            <a:br>
              <a:rPr sz="4400"/>
            </a:br>
            <a:r>
              <a:rPr b="0" lang="en-US" sz="4400" spc="-1" strike="noStrike">
                <a:solidFill>
                  <a:srgbClr val="66ccff"/>
                </a:solidFill>
                <a:latin typeface="Comic Sans MS"/>
              </a:rPr>
              <a:t>Sistema Mettag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828800" y="1752120"/>
            <a:ext cx="6934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Comic Sans MS"/>
              </a:rPr>
              <a:t>Ver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Comic Sans MS"/>
              </a:rPr>
              <a:t>Amarill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Comic Sans MS"/>
              </a:rPr>
              <a:t>Roj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Comic Sans MS"/>
              </a:rPr>
              <a:t>Negr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ccff"/>
                </a:solidFill>
                <a:uFillTx/>
                <a:latin typeface="Comic Sans MS"/>
              </a:rPr>
              <a:t>Sistema basado en el criterio de prioridad de evacuación a nivel superior de asistenci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248520" y="1523880"/>
            <a:ext cx="76176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JC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9458-B8DB-4E3E-97F8-09B282344DE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Comic Sans MS"/>
              </a:rPr>
              <a:t>TRIAGE</a:t>
            </a:r>
            <a:br>
              <a:rPr sz="4400"/>
            </a:br>
            <a:r>
              <a:rPr b="0" lang="en-US" sz="4400" spc="-1" strike="noStrike">
                <a:solidFill>
                  <a:srgbClr val="00cc99"/>
                </a:solidFill>
                <a:latin typeface="Comic Sans MS"/>
              </a:rPr>
              <a:t>Sistema Metta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Comic Sans MS"/>
              </a:rPr>
              <a:t>VERDE - pacientes que no precisan asistencia hospitalaria o médica inmediata, o en todo caso pueden ser trasladados en vehículos no sanitari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"/>
          <p:cNvSpPr/>
          <p:nvPr/>
        </p:nvSpPr>
        <p:spPr>
          <a:xfrm>
            <a:off x="762120" y="457200"/>
            <a:ext cx="761760" cy="1219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JC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3A33-92D7-4231-9B00-2656B5DD593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TRIAGE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istema Metta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AMARILLO - pacientes que precisan asistencia hospitalaria, pero que se puede retrasar hasta 6 horas; sin riesgo vital inmediat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"/>
          <p:cNvSpPr/>
          <p:nvPr/>
        </p:nvSpPr>
        <p:spPr>
          <a:xfrm>
            <a:off x="838080" y="533520"/>
            <a:ext cx="762120" cy="1218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JC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2D1E-039A-49DF-9F1D-59866F835D3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Comic Sans MS"/>
              </a:rPr>
              <a:t>TRIAGE</a:t>
            </a:r>
            <a:br>
              <a:rPr sz="4400"/>
            </a:br>
            <a:r>
              <a:rPr b="0" lang="en-US" sz="4400" spc="-1" strike="noStrike">
                <a:solidFill>
                  <a:srgbClr val="ff6600"/>
                </a:solidFill>
                <a:latin typeface="Comic Sans MS"/>
              </a:rPr>
              <a:t>Sistema Metta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8191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ROJO - pacientes que </a:t>
            </a:r>
            <a:r>
              <a:rPr b="1" lang="en-US" sz="3200" spc="-1" strike="noStrike" u="sng">
                <a:solidFill>
                  <a:srgbClr val="ff6600"/>
                </a:solidFill>
                <a:uFillTx/>
                <a:latin typeface="Comic Sans MS"/>
              </a:rPr>
              <a:t>precisan asistencia inmediata 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y una vez</a:t>
            </a:r>
            <a:r>
              <a:rPr b="1" lang="en-US" sz="3200" spc="-1" strike="noStrike" u="sng">
                <a:solidFill>
                  <a:srgbClr val="ff6600"/>
                </a:solidFill>
                <a:uFillTx/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proporcionada son</a:t>
            </a:r>
            <a:r>
              <a:rPr b="1" lang="en-US" sz="3200" spc="-1" strike="noStrike" u="sng">
                <a:solidFill>
                  <a:srgbClr val="ff6600"/>
                </a:solidFill>
                <a:uFillTx/>
                <a:latin typeface="Comic Sans MS"/>
              </a:rPr>
              <a:t> recuperables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, es decir, tienen un pronóstico aceptab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"/>
          <p:cNvSpPr/>
          <p:nvPr/>
        </p:nvSpPr>
        <p:spPr>
          <a:xfrm>
            <a:off x="914400" y="685800"/>
            <a:ext cx="685800" cy="12952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JC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F08E-49C3-475D-BEEF-C653230F670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Comic Sans MS"/>
              </a:rPr>
              <a:t>TRIAGE</a:t>
            </a:r>
            <a:br>
              <a:rPr sz="4400"/>
            </a:br>
            <a:r>
              <a:rPr b="0" lang="en-US" sz="4400" spc="-1" strike="noStrike">
                <a:solidFill>
                  <a:srgbClr val="66ccff"/>
                </a:solidFill>
                <a:latin typeface="Comic Sans MS"/>
              </a:rPr>
              <a:t>Sistema Metta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Comic Sans MS"/>
              </a:rPr>
              <a:t>NEGROS - pacientes “exitus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Comic Sans MS"/>
              </a:rPr>
              <a:t>Existe una variante que propone tarjeta de color GRIS o AZUL a pacientes </a:t>
            </a:r>
            <a:r>
              <a:rPr b="1" lang="en-US" sz="3200" spc="-1" strike="noStrike">
                <a:solidFill>
                  <a:srgbClr val="66ccff"/>
                </a:solidFill>
                <a:latin typeface="Comic Sans MS"/>
              </a:rPr>
              <a:t>desahuciad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"/>
          <p:cNvSpPr/>
          <p:nvPr/>
        </p:nvSpPr>
        <p:spPr>
          <a:xfrm>
            <a:off x="838080" y="685800"/>
            <a:ext cx="76212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"/>
          <p:cNvSpPr/>
          <p:nvPr/>
        </p:nvSpPr>
        <p:spPr>
          <a:xfrm>
            <a:off x="6705720" y="4800600"/>
            <a:ext cx="685800" cy="9907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"/>
          <p:cNvSpPr/>
          <p:nvPr/>
        </p:nvSpPr>
        <p:spPr>
          <a:xfrm>
            <a:off x="1828800" y="4876920"/>
            <a:ext cx="685800" cy="1066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JC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F6E1-F2AF-44F6-92FE-9F7EA153114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ff"/>
                </a:solidFill>
                <a:latin typeface="Comic Sans MS"/>
              </a:rPr>
              <a:t>TRIAJE</a:t>
            </a:r>
            <a:br>
              <a:rPr sz="4400"/>
            </a:br>
            <a:r>
              <a:rPr b="0" lang="en-US" sz="4400" spc="-1" strike="noStrike">
                <a:solidFill>
                  <a:srgbClr val="ffccff"/>
                </a:solidFill>
                <a:latin typeface="Comic Sans MS"/>
              </a:rPr>
              <a:t>Sistema STA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Comic Sans MS"/>
              </a:rPr>
              <a:t>Desarrollado por un grupo de médicos, enfermeras y bomberos en el año 1984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Comic Sans MS"/>
              </a:rPr>
              <a:t>Sencillo y rápido, tiende a clasificar la gravedad por exces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Comic Sans MS"/>
              </a:rPr>
              <a:t>Permite TRIAR en 30 segundos y aplicar medidas correctoras en algo más de 1 minut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JC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3D8B-0A39-4D27-AFE1-BE11B2227E4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ff"/>
                </a:solidFill>
                <a:latin typeface="Comic Sans MS"/>
              </a:rPr>
              <a:t>TRIAGE</a:t>
            </a:r>
            <a:br>
              <a:rPr sz="4400"/>
            </a:br>
            <a:r>
              <a:rPr b="0" lang="en-US" sz="4400" spc="-1" strike="noStrike">
                <a:solidFill>
                  <a:srgbClr val="ffccff"/>
                </a:solidFill>
                <a:latin typeface="Comic Sans MS"/>
              </a:rPr>
              <a:t>Sistema STA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Comic Sans MS"/>
              </a:rPr>
              <a:t>Basado en la capacidad para deambular: ¿ANDA?         *NO AND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Comic Sans MS"/>
              </a:rPr>
              <a:t>                         </a:t>
            </a:r>
            <a:r>
              <a:rPr b="0" lang="en-US" sz="2800" spc="-1" strike="noStrike">
                <a:solidFill>
                  <a:srgbClr val="ffccff"/>
                </a:solidFill>
                <a:latin typeface="Comic Sans MS"/>
              </a:rPr>
              <a:t>¿Habla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Comic Sans MS"/>
              </a:rPr>
              <a:t>       </a:t>
            </a:r>
            <a:r>
              <a:rPr b="0" lang="en-US" sz="2800" spc="-1" strike="noStrike">
                <a:solidFill>
                  <a:srgbClr val="ffccff"/>
                </a:solidFill>
                <a:latin typeface="Comic Sans MS"/>
              </a:rPr>
              <a:t>¿Respira (solucionable con apertura)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Comic Sans MS"/>
              </a:rPr>
              <a:t>                </a:t>
            </a:r>
            <a:r>
              <a:rPr b="0" lang="en-US" sz="2800" spc="-1" strike="noStrike">
                <a:solidFill>
                  <a:srgbClr val="ffccff"/>
                </a:solidFill>
                <a:latin typeface="Comic Sans MS"/>
              </a:rPr>
              <a:t>Frecuencia respiratori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Comic Sans MS"/>
              </a:rPr>
              <a:t>                     </a:t>
            </a:r>
            <a:r>
              <a:rPr b="0" lang="en-US" sz="2800" spc="-1" strike="noStrike">
                <a:solidFill>
                  <a:srgbClr val="ffccff"/>
                </a:solidFill>
                <a:latin typeface="Comic Sans MS"/>
              </a:rPr>
              <a:t>Relleno capila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"/>
          <p:cNvSpPr/>
          <p:nvPr/>
        </p:nvSpPr>
        <p:spPr>
          <a:xfrm>
            <a:off x="2743200" y="26668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"/>
          <p:cNvSpPr/>
          <p:nvPr/>
        </p:nvSpPr>
        <p:spPr>
          <a:xfrm>
            <a:off x="4038480" y="3200400"/>
            <a:ext cx="487440" cy="533520"/>
          </a:xfrm>
          <a:prstGeom prst="downArrow">
            <a:avLst>
              <a:gd name="adj1" fmla="val 50000"/>
              <a:gd name="adj2" fmla="val 27363"/>
            </a:avLst>
          </a:prstGeom>
          <a:solidFill>
            <a:srgbClr val="ffccff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JC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2B07-3E94-4942-BCB1-B42550401F9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ff"/>
                </a:solidFill>
                <a:latin typeface="Comic Sans MS"/>
              </a:rPr>
              <a:t>TRIAGE</a:t>
            </a:r>
            <a:br>
              <a:rPr sz="4400"/>
            </a:br>
            <a:r>
              <a:rPr b="0" lang="en-US" sz="4400" spc="-1" strike="noStrike">
                <a:solidFill>
                  <a:srgbClr val="ffccff"/>
                </a:solidFill>
                <a:latin typeface="Comic Sans MS"/>
              </a:rPr>
              <a:t>Sistema STA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2438280"/>
            <a:ext cx="8381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Comic Sans MS"/>
              </a:rPr>
              <a:t>Cataloga en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ccff"/>
                </a:solidFill>
                <a:uFillTx/>
                <a:latin typeface="Comic Sans MS"/>
              </a:rPr>
              <a:t>Prioridad 1</a:t>
            </a:r>
            <a:r>
              <a:rPr b="0" lang="en-US" sz="3200" spc="-1" strike="noStrike">
                <a:solidFill>
                  <a:srgbClr val="ffccff"/>
                </a:solidFill>
                <a:latin typeface="Comic Sans MS"/>
              </a:rPr>
              <a:t> - NH, NR pero solucionab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Comic Sans MS"/>
              </a:rPr>
              <a:t>FR menor 10 o mayor 30, RC mayor 2 se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ccff"/>
                </a:solidFill>
                <a:uFillTx/>
                <a:latin typeface="Comic Sans MS"/>
              </a:rPr>
              <a:t>Prioridad 2</a:t>
            </a:r>
            <a:r>
              <a:rPr b="0" lang="en-US" sz="3200" spc="-1" strike="noStrike">
                <a:solidFill>
                  <a:srgbClr val="ffccff"/>
                </a:solidFill>
                <a:latin typeface="Comic Sans MS"/>
              </a:rPr>
              <a:t> - NH y resto norma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ff"/>
                </a:solidFill>
                <a:latin typeface="Comic Sans MS"/>
              </a:rPr>
              <a:t>FR de 10 a 30, RC menor de 2 se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ccff"/>
                </a:solidFill>
                <a:uFillTx/>
                <a:latin typeface="Comic Sans MS"/>
              </a:rPr>
              <a:t>Prioridad 3</a:t>
            </a:r>
            <a:r>
              <a:rPr b="0" lang="en-US" sz="3200" spc="-1" strike="noStrike">
                <a:solidFill>
                  <a:srgbClr val="ffccff"/>
                </a:solidFill>
                <a:latin typeface="Comic Sans MS"/>
              </a:rPr>
              <a:t> - Si habl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JC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9B15-CA73-4B68-98EF-FA71C4A2350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RIAGE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Sistema STA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*Deambulación:              *Ventilació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- Anda DEMORABLE      - RC + 2 se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- No anda: Ventilación      URGENCI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*Liberar vía aérea:            INMEDIAT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- No respira                   *RC - 2 se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RRECUPERABLE         - Nivel concienci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- Respira + 30                  Respuesta verb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URGENCIA                    ·negativa URGENCI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MEDIATA                 ·positiva DEMORAB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JC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9114-3CCD-4B9C-9772-B7FF7617FDC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TRIAGE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istema MRC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iseñado por autores españoles para realizar el primer triage(variante simplificada del START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Es mas fácil de aplicar para voluntarios y bomber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Rápido de aplicar(menos de 1 minuto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Incorpora dos cuidados(control de la vía aérea en víctimas inconscientes y control de hemorragia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JC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1244-92DA-4C96-AAAF-277274B07C2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TRIA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Es un procedimiento destinado a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lasificar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a las víctimas en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ATEGORIAS de acuerdo con su pronóstico vital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, con el fin de obtener un orden de prioridades en su tratamient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JC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3FBB-1A96-4F4D-A985-25136117245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Comic Sans MS"/>
              </a:rPr>
              <a:t>TRIAGE       </a:t>
            </a:r>
            <a:br>
              <a:rPr sz="4400"/>
            </a:br>
            <a:r>
              <a:rPr b="0" lang="en-US" sz="3600" spc="-1" strike="noStrike">
                <a:solidFill>
                  <a:srgbClr val="ff6600"/>
                </a:solidFill>
                <a:latin typeface="Comic Sans MS"/>
              </a:rPr>
              <a:t>Sistema Noto-Larcan-Huquenar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UA, Urgencias Absolut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          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- Extremas urgenci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          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- Primeras urgenci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799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UR, Urgencias Relativ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           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- Segundas urgenci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           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- Terceras urgenci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799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UD, Urgencias sobrepasadas “depassés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799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Lisiad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799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Muert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JC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2080-1596-4A1A-97C6-C13A8B02BB7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TRIAGE</a:t>
            </a:r>
            <a:br>
              <a:rPr sz="4400"/>
            </a:b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istema Noto-Larcan-Huquenar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ctr">
              <a:spcBef>
                <a:spcPts val="799"/>
              </a:spcBef>
              <a:buClr>
                <a:srgbClr val="ffff00"/>
              </a:buClr>
              <a:buFont typeface="Arial Narrow Special G1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Urgencias vitale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* E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*U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 algn="ctr">
              <a:spcBef>
                <a:spcPts val="799"/>
              </a:spcBef>
              <a:buClr>
                <a:srgbClr val="ffff00"/>
              </a:buClr>
              <a:buFont typeface="Arial Narrow Special G1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Urgencias grave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*U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 algn="ctr">
              <a:spcBef>
                <a:spcPts val="799"/>
              </a:spcBef>
              <a:buClr>
                <a:srgbClr val="ffff00"/>
              </a:buClr>
              <a:buFont typeface="Arial Narrow Special G1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Urgencias leve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   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*U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   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*Lisiad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JC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DC36-858F-45F7-9108-4DFD9F0571C8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TRIAGE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Relación Mettag y N-L-H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UA: Urgencias absolutas - ROJO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   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# U1: Primera urgenci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   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# EU: Extrema urgenci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UR: Urgencias relativ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   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# U2: Segunda urgencia - AMARILL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   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#U3: Tercera urgencia - VER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UD: Urgencias sobrepasadas - VERDE(duda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LISIADOS: - VER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MUERTOS: - NEGR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JC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3176-29A0-47FA-AE56-730D78867F81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Comic Sans MS"/>
              </a:rPr>
              <a:t>TRIAGE</a:t>
            </a:r>
            <a:br>
              <a:rPr sz="4400"/>
            </a:br>
            <a:r>
              <a:rPr b="0" lang="en-US" sz="3600" spc="-1" strike="noStrike">
                <a:solidFill>
                  <a:srgbClr val="ff6600"/>
                </a:solidFill>
                <a:latin typeface="Comic Sans MS"/>
              </a:rPr>
              <a:t>Sistema Mettag y N-L-H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Comic Sans MS"/>
              </a:rPr>
              <a:t>Roj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Comic Sans MS"/>
              </a:rPr>
              <a:t>   </a:t>
            </a:r>
            <a:r>
              <a:rPr b="1" lang="en-US" sz="2000" spc="-1" strike="noStrike">
                <a:solidFill>
                  <a:srgbClr val="ff6600"/>
                </a:solidFill>
                <a:latin typeface="Comic Sans MS"/>
              </a:rPr>
              <a:t>- Inconscient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Comic Sans MS"/>
              </a:rPr>
              <a:t>   </a:t>
            </a:r>
            <a:r>
              <a:rPr b="1" lang="en-US" sz="2000" spc="-1" strike="noStrike">
                <a:solidFill>
                  <a:srgbClr val="ff6600"/>
                </a:solidFill>
                <a:latin typeface="Comic Sans MS"/>
              </a:rPr>
              <a:t>- Lesiones graves en cara y/o penetrantes en oj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Comic Sans MS"/>
              </a:rPr>
              <a:t>   </a:t>
            </a:r>
            <a:r>
              <a:rPr b="1" lang="en-US" sz="2000" spc="-1" strike="noStrike">
                <a:solidFill>
                  <a:srgbClr val="ff6600"/>
                </a:solidFill>
                <a:latin typeface="Comic Sans MS"/>
              </a:rPr>
              <a:t>- Alteraciones del A-B-C, solucionabl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Comic Sans MS"/>
              </a:rPr>
              <a:t>   </a:t>
            </a:r>
            <a:r>
              <a:rPr b="1" lang="en-US" sz="2000" spc="-1" strike="noStrike">
                <a:solidFill>
                  <a:srgbClr val="ff6600"/>
                </a:solidFill>
                <a:latin typeface="Comic Sans MS"/>
              </a:rPr>
              <a:t>- Traumatismos torácicos y abdominales grav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Comic Sans MS"/>
              </a:rPr>
              <a:t>   </a:t>
            </a:r>
            <a:r>
              <a:rPr b="1" lang="en-US" sz="2000" spc="-1" strike="noStrike">
                <a:solidFill>
                  <a:srgbClr val="ff6600"/>
                </a:solidFill>
                <a:latin typeface="Comic Sans MS"/>
              </a:rPr>
              <a:t>- Traumatismos de columna vertebral con afectación neurológic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Comic Sans MS"/>
              </a:rPr>
              <a:t>   </a:t>
            </a:r>
            <a:r>
              <a:rPr b="1" lang="en-US" sz="2000" spc="-1" strike="noStrike">
                <a:solidFill>
                  <a:srgbClr val="ff6600"/>
                </a:solidFill>
                <a:latin typeface="Comic Sans MS"/>
              </a:rPr>
              <a:t>- Fx abiertas de huesos larg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Comic Sans MS"/>
              </a:rPr>
              <a:t>   </a:t>
            </a:r>
            <a:r>
              <a:rPr b="1" lang="en-US" sz="2000" spc="-1" strike="noStrike">
                <a:solidFill>
                  <a:srgbClr val="ff6600"/>
                </a:solidFill>
                <a:latin typeface="Comic Sans MS"/>
              </a:rPr>
              <a:t>- Luxaciones de grandes articulaciones con compromis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Comic Sans MS"/>
              </a:rPr>
              <a:t>   </a:t>
            </a:r>
            <a:r>
              <a:rPr b="1" lang="en-US" sz="2000" spc="-1" strike="noStrike">
                <a:solidFill>
                  <a:srgbClr val="ff6600"/>
                </a:solidFill>
                <a:latin typeface="Comic Sans MS"/>
              </a:rPr>
              <a:t>- Heridas vasculares grav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Comic Sans MS"/>
              </a:rPr>
              <a:t>   </a:t>
            </a:r>
            <a:r>
              <a:rPr b="1" lang="en-US" sz="2000" spc="-1" strike="noStrike">
                <a:solidFill>
                  <a:srgbClr val="ff6600"/>
                </a:solidFill>
                <a:latin typeface="Comic Sans MS"/>
              </a:rPr>
              <a:t>- Compresión extremidad/es largas - mas de 4 horas</a:t>
            </a:r>
            <a:r>
              <a:rPr b="1" lang="en-US" sz="2400" spc="-1" strike="noStrike">
                <a:solidFill>
                  <a:srgbClr val="ff6600"/>
                </a:solidFill>
                <a:latin typeface="Comic Sans MS"/>
              </a:rPr>
              <a:t> -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Comic Sans MS"/>
              </a:rPr>
              <a:t>   </a:t>
            </a:r>
            <a:r>
              <a:rPr b="1" lang="en-US" sz="2000" spc="-1" strike="noStrike">
                <a:solidFill>
                  <a:srgbClr val="ff6600"/>
                </a:solidFill>
                <a:latin typeface="Comic Sans MS"/>
              </a:rPr>
              <a:t>- Hipotermi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Comic Sans MS"/>
              </a:rPr>
              <a:t>   </a:t>
            </a:r>
            <a:r>
              <a:rPr b="1" lang="en-US" sz="2000" spc="-1" strike="noStrike">
                <a:solidFill>
                  <a:srgbClr val="ff6600"/>
                </a:solidFill>
                <a:latin typeface="Comic Sans MS"/>
              </a:rPr>
              <a:t>- </a:t>
            </a:r>
            <a:r>
              <a:rPr b="1" lang="en-US" sz="2000" spc="-1" strike="noStrike" u="sng">
                <a:solidFill>
                  <a:srgbClr val="ff6600"/>
                </a:solidFill>
                <a:uFillTx/>
                <a:latin typeface="Comic Sans MS"/>
              </a:rPr>
              <a:t>Quemaduras de 2º y 3º grado - entre 30-50% y en cara y man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"/>
          <p:cNvSpPr/>
          <p:nvPr/>
        </p:nvSpPr>
        <p:spPr>
          <a:xfrm>
            <a:off x="1981080" y="1600200"/>
            <a:ext cx="1143000" cy="53352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JC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D7A5-4D27-4017-BFE2-54A59CE27105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TRIAJE</a:t>
            </a:r>
            <a:br>
              <a:rPr sz="4400"/>
            </a:b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istema Mettag y N-L-H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Amarill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-Fx de huesos largos cerradas y de huesos cortos abiert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- Traumatismos craneales con Glasgow entre 9 y 1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- Luxaciones de grandes artivulaciones sin compromis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- Lesiones en ojos graves no penetrant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- Traumatismo torácico y abdominal sin compromis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-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Comic Sans MS"/>
              </a:rPr>
              <a:t>Quemaduras de 2º y 3º grado entre 10 y 30%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- Scalp modera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- Grandes heridas no hemorrágicas o moderadamente hemorrágic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- Heridas articulares profund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- Blast OR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- Intoxicaciones con manifestaciones cutáne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1600200"/>
            <a:ext cx="106668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JC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71AA-AEA9-4D73-A5E8-F7576F4DD757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Comic Sans MS"/>
              </a:rPr>
              <a:t>TRIAGE</a:t>
            </a:r>
            <a:br>
              <a:rPr sz="4400"/>
            </a:br>
            <a:r>
              <a:rPr b="0" lang="en-US" sz="3600" spc="-1" strike="noStrike">
                <a:solidFill>
                  <a:srgbClr val="00ff00"/>
                </a:solidFill>
                <a:latin typeface="Comic Sans MS"/>
              </a:rPr>
              <a:t>Sistema Mettag N-L-H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Verd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00ff00"/>
                </a:solidFill>
                <a:latin typeface="Comic Sans MS"/>
              </a:rPr>
              <a:t>- Traumatismos cerrados de extremidad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00ff00"/>
                </a:solidFill>
                <a:latin typeface="Comic Sans MS"/>
              </a:rPr>
              <a:t>- Pequeñas heridas contus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00ff00"/>
                </a:solidFill>
                <a:latin typeface="Comic Sans MS"/>
              </a:rPr>
              <a:t>- Contusiones moderadas torácicas y abdominal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00ff00"/>
                </a:solidFill>
                <a:latin typeface="Comic Sans MS"/>
              </a:rPr>
              <a:t>- </a:t>
            </a:r>
            <a:r>
              <a:rPr b="1" lang="en-US" sz="2400" spc="-1" strike="noStrike" u="sng">
                <a:solidFill>
                  <a:srgbClr val="00ff00"/>
                </a:solidFill>
                <a:uFillTx/>
                <a:latin typeface="Comic Sans MS"/>
              </a:rPr>
              <a:t>Quemaduras inferiores al 10%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00ff00"/>
                </a:solidFill>
                <a:latin typeface="Comic Sans MS"/>
              </a:rPr>
              <a:t>- TCE leve co Glasgow 14 - 15, con o sin conmoció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00ff00"/>
                </a:solidFill>
                <a:latin typeface="Comic Sans MS"/>
              </a:rPr>
              <a:t>- Luxaciones de articulaciones pequeñ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00ff00"/>
                </a:solidFill>
                <a:latin typeface="Comic Sans MS"/>
              </a:rPr>
              <a:t>* Urgencias sobrepasada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1981080" y="1523880"/>
            <a:ext cx="9144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JC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4060-99D0-40FF-B8AF-5902A24090E0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TRIAGE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Urgencias sobrepasada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(desahuciado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Verd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- PCR no presenciad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-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Comic Sans MS"/>
              </a:rPr>
              <a:t>Quemaduras de 2º y3º grado con una S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    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Comic Sans MS"/>
              </a:rPr>
              <a:t>superiores al 80%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- Hundimientos toraco-abdominales y cranea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- Estados preagónic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JC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68B5-87FB-47D1-9266-19AA214C5AED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Comic Sans MS"/>
              </a:rPr>
              <a:t>TRIA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Comic Sans MS"/>
              </a:rPr>
              <a:t>EXTREMAS URGENCI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Comic Sans MS"/>
              </a:rPr>
              <a:t>Pacientes que requieren reanimación inmediata para lograr su evacuació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Comic Sans MS"/>
              </a:rPr>
              <a:t>Representan alrededor del </a:t>
            </a:r>
            <a:r>
              <a:rPr b="1" lang="en-US" sz="2800" spc="-1" strike="noStrike">
                <a:solidFill>
                  <a:srgbClr val="00cc99"/>
                </a:solidFill>
                <a:latin typeface="Comic Sans MS"/>
              </a:rPr>
              <a:t>10% de las víctimas atendid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JC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07B2-879E-44B4-A43A-D35F2953F721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TRIA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EXTREMAS URGENCI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Distres respiratórios agudo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- Hipovolemias por pérdidas masivas( externas, internas,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Comic Sans MS"/>
              </a:rPr>
              <a:t>quemaduras 2º y3º grado de más del 50% de superficie corpor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- Normovolémico con intoxicación masiva,hipotermia profunda y hematomas extradura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- PCR presenciad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JC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5BF5-9D6D-47DE-9B43-FF833DA83A8A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Comic Sans MS"/>
              </a:rPr>
              <a:t>TRIA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Comic Sans MS"/>
              </a:rPr>
              <a:t>PRIMERAS URGENCI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Marlett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Comic Sans MS"/>
              </a:rPr>
              <a:t>Necesitan cuidados antes de la evacuació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ff6600"/>
                </a:solidFill>
                <a:latin typeface="Comic Sans MS"/>
              </a:rPr>
              <a:t>Presenta riesgo de insuficiencia respiratoria o circulatori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Marlett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Comic Sans MS"/>
              </a:rPr>
              <a:t>Necesidad de vigilancia durante el transpor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Marlett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Comic Sans MS"/>
              </a:rPr>
              <a:t>No demorar tto más de 6 hor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Marlett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Comic Sans MS"/>
              </a:rPr>
              <a:t>Representan el </a:t>
            </a: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20% de las víctimas atendid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JC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BF57-9691-4774-8951-05AB0CC079A4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Comic Sans MS"/>
              </a:rPr>
              <a:t>Concepto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Comic Sans MS"/>
              </a:rPr>
              <a:t>Sistema de </a:t>
            </a:r>
            <a:r>
              <a:rPr b="1" lang="en-US" sz="3200" spc="-1" strike="noStrike">
                <a:solidFill>
                  <a:srgbClr val="ccccff"/>
                </a:solidFill>
                <a:latin typeface="Comic Sans MS"/>
              </a:rPr>
              <a:t>clasificación</a:t>
            </a:r>
            <a:r>
              <a:rPr b="0" lang="en-US" sz="3200" spc="-1" strike="noStrike">
                <a:solidFill>
                  <a:srgbClr val="ccccff"/>
                </a:solidFill>
                <a:latin typeface="Comic Sans MS"/>
              </a:rPr>
              <a:t> de heridos </a:t>
            </a:r>
            <a:r>
              <a:rPr b="1" lang="en-US" sz="3200" spc="-1" strike="noStrike">
                <a:solidFill>
                  <a:srgbClr val="ccccff"/>
                </a:solidFill>
                <a:latin typeface="Comic Sans MS"/>
              </a:rPr>
              <a:t>bajo los criterios de gravedad y pronóstico</a:t>
            </a:r>
            <a:r>
              <a:rPr b="0" lang="en-US" sz="3200" spc="-1" strike="noStrike">
                <a:solidFill>
                  <a:srgbClr val="ccccff"/>
                </a:solidFill>
                <a:latin typeface="Comic Sans MS"/>
              </a:rPr>
              <a:t> de los pacientes y de los </a:t>
            </a:r>
            <a:r>
              <a:rPr b="1" lang="en-US" sz="3200" spc="-1" strike="noStrike">
                <a:solidFill>
                  <a:srgbClr val="ccccff"/>
                </a:solidFill>
                <a:latin typeface="Comic Sans MS"/>
              </a:rPr>
              <a:t>recursos</a:t>
            </a:r>
            <a:r>
              <a:rPr b="0" lang="en-US" sz="3200" spc="-1" strike="noStrike">
                <a:solidFill>
                  <a:srgbClr val="ccccff"/>
                </a:solidFill>
                <a:latin typeface="Comic Sans MS"/>
              </a:rPr>
              <a:t> para asistir las necesidades de cuidados que ha generado una catástrof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Comic Sans MS"/>
              </a:rPr>
              <a:t>TRIA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809880" y="3808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172200" y="609480"/>
            <a:ext cx="1600200" cy="1676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JC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97F0-C1DB-469D-B483-0314170A1D2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TRIA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omic Sans MS"/>
              </a:rPr>
              <a:t>PRIMERAS URGENCIAS I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Politraumatism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Traumatismos torácicos sin alteración respiratori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Traumatismos abdominales con hemorragia sin shoc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Heridas vascular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Fx abiertas de grandes hues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Grandes heridas muscular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TCE en coma profun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Compresiones prolongadas de más de 4 horas en extremidad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Traumatismos de columna con afectación neurológic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JC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6F60-BCF7-4CCF-9BE8-3A8478B44F7A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TRIA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PRIMERAS URGENCIAS II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Comic Sans MS"/>
              </a:rPr>
              <a:t>Quemaduras de 2º y3º grado entre el 30 y 50%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Intoxicaciones por ingestión en coma persiste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Intoxicaciones por inhalación con afectación respiratoria crecie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eridas oculares penetrant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last pulmonar con trastornos ventilatori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Ahogamientos en coma persiste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Comic Sans MS"/>
              <a:buChar char="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ipotermias entre 28 y 32 º 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JC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A8BE-08A5-411E-A3C1-8EF880072EEE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TRIA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URGENCIAS RELATIV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*Realizaremos gestos simples de estabilización de las lesion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*Evacuación diferida sin vigilancia especializad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*Acción terapéutica retrasada sin provocar riesgo vit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*Se dividen en segundas y terceras urgenci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JC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FB4C-2698-4C97-B9BA-9E1B57632360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TRIA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EGUNDAS URGENCI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epresentan el 30% de las víctimas atendid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u tto definitivo puede demorarse de 6 a 18 hor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Evacuación sin un control especia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JC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BDFD-72FE-42DB-8734-3382AA25B3BA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TRIA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SEGUNDAS URGENCIAS I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Comic Sans MS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x cerradas diafisari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Comic Sans MS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x abiertas de huesos pequeñ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Comic Sans MS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Heridas de partes blandas no excesivamente hemorrágic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Comic Sans MS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Scalps moderad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Comic Sans MS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CE con ligera clínica neurológic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Comic Sans MS"/>
              <a:buChar char="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Comic Sans MS"/>
              </a:rPr>
              <a:t>Quemaduras 2º y3º grado inferiores al 20% y superiores al 10% de S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JC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1749-8A3B-46B2-B971-9EF737E8445D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TRIA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EGUNDAS URGENCIAS II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uxaciones de grandes articulaciones sin signos neurológic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esiones oftálmic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last OR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eridas articular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ompresiones moderadas de miembros sin shoc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Intoxicación respiratoria sin clínic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Intoxicación con manifestaciones cutáne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JC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910C-24E8-48AA-8EE9-1397A8C6CBB4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TRIA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ERCERAS URGENCI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atología cuyo tto puede demorarse 18 hor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Representa un 40% de las víctimas atendid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Requieren escasos cuidad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osibilidad de transporte en sedestació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JC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A730-5FDD-4DB2-AD1E-E906254BE9E1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TRIA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TERCERAS URGENCIAS I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Symbol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Traumas cerrados de extremidad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Symbol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Pequeñas heridas contus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Symbol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TCE con pérdida inicial de concienci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Symbol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Contusiones moderadas torácicas y abdominal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Symbol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cc00"/>
                </a:solidFill>
                <a:uFillTx/>
                <a:latin typeface="Comic Sans MS"/>
              </a:rPr>
              <a:t>Quemaduras inferiores al 10%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JC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5620-6820-4BBC-9041-DF0B9CFB53DF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TRIA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URGENCIAS SOBREPASAD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Web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Víctimas con lesiones con pocas/nulas posibilidades de sobrevivi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Web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¿Tratamiento paliativo?(administrar analgésicos...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Web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Sólo aplicables en grandes catástrof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JC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93EB-070A-4A8F-8F8C-4101EB8A0CD2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Comic Sans MS"/>
              </a:rPr>
              <a:t>TRIA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URGENCIAS SOBREPASAD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00ff00"/>
              </a:buClr>
              <a:buFont typeface="Webdings" charset="2"/>
              <a:buChar char="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PCR no presenciad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00ff00"/>
              </a:buClr>
              <a:buFont typeface="Webdings" charset="2"/>
              <a:buChar char="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Quemaduras de 2º y3º grado mayores al 80% de la superficie corpora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00ff00"/>
              </a:buClr>
              <a:buFont typeface="Webdings" charset="2"/>
              <a:buChar char="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Hundimientos toraco-abdominales y craneale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00ff00"/>
              </a:buClr>
              <a:buFont typeface="Webdings" charset="2"/>
              <a:buChar char="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Estados preagónic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JC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B68B-DA7B-463F-8EE9-A95A83561F25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Comic Sans MS"/>
              </a:rPr>
              <a:t>TRIA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Diferencia entre Clasificación y Triaj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- Clasificación: según graveda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- Triaje: además, según    probabilidad de supervivencia ( Problemas ético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JC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BA7B-4B64-4D26-A646-6B4B1EBD530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Comic Sans MS"/>
              </a:rPr>
              <a:t>TRIA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PROBLEM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ff00"/>
              </a:buClr>
              <a:buFont typeface="Web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Étic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ff00"/>
              </a:buClr>
              <a:buFont typeface="Web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Organización materia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ff00"/>
              </a:buClr>
              <a:buFont typeface="Web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ff00"/>
                </a:solidFill>
                <a:uFillTx/>
                <a:latin typeface="Comic Sans MS"/>
              </a:rPr>
              <a:t>De rendimiento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*Gravedad y estado clínic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*Agravación o mejoría sin tratamient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*Previsión de evolución bajo tt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JC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ECAF-E0D9-45D5-904F-35D692DCE872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Comic Sans MS"/>
              </a:rPr>
              <a:t>TRIAGE</a:t>
            </a:r>
            <a:br>
              <a:rPr sz="4400"/>
            </a:br>
            <a:r>
              <a:rPr b="0" lang="en-US" sz="4400" spc="-1" strike="noStrike">
                <a:solidFill>
                  <a:srgbClr val="00ff00"/>
                </a:solidFill>
                <a:latin typeface="Comic Sans MS"/>
              </a:rPr>
              <a:t>TARJETAS DE TRIA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447920" y="25146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Comic Sans MS"/>
              </a:rPr>
              <a:t>Son tarjetas de prioridad de evacuación</a:t>
            </a:r>
            <a:r>
              <a:rPr b="0" lang="en-US" sz="36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ff00"/>
                </a:solidFill>
                <a:latin typeface="Comic Sans MS"/>
              </a:rPr>
              <a:t>y contienen datos del herido, su tto y su nº de orden</a:t>
            </a:r>
            <a:r>
              <a:rPr b="0" lang="en-US" sz="3200" spc="-1" strike="noStrike">
                <a:solidFill>
                  <a:srgbClr val="006666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TRIA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*Las tarjetas de triag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ontienen: Identidad, sexo, dirección, lesiones, tto realizado,nº orde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eben sujetarse a la víctima, no a sus ropas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odas las tarjetas son igual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ebe ser cómoda y visi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e material consistente (plástico) que no se deforme con el agua y secreccion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onocido por el personal que realiza el tria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JC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18A3-A47A-4C4A-95C5-EE79CC72FE05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Comic Sans MS"/>
              </a:rPr>
              <a:t>TRIA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Colores de la tarjeta de triaj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Comic Sans MS"/>
              </a:rPr>
              <a:t>Rojo: necesitan asistencia y evacuación inmediata (extremas urgencias y primeras urgencia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Comic Sans MS"/>
              </a:rPr>
              <a:t>Amarillo: puede diferirse el tratamiento (segundas urgencia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Comic Sans MS"/>
              </a:rPr>
              <a:t>Verde: heridos leves (terceras urgencia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Comic Sans MS"/>
              </a:rPr>
              <a:t>Negro: fallecidos y urgencias sobrepasad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JC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350B-0F9F-4909-B793-C7197C48DA79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Comic Sans MS"/>
              </a:rPr>
              <a:t>TRIA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Web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La tarjeta de triaje clásica tiene solapas con los colores, siendo el más grave negro, el más proximal, y el más  leve verde, el dista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Web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Se cortan las solapas según priorida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Web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También se pueden colocar cintas de sujección de colores según priorida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JC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8FAA-7E51-4011-9614-8E5E7CA99928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Comic Sans MS"/>
              </a:rPr>
              <a:t>TRIAGE</a:t>
            </a:r>
            <a:br>
              <a:rPr sz="4400"/>
            </a:br>
            <a:r>
              <a:rPr b="0" lang="en-US" sz="3600" spc="-1" strike="noStrike">
                <a:solidFill>
                  <a:srgbClr val="00ff00"/>
                </a:solidFill>
                <a:latin typeface="Comic Sans MS"/>
              </a:rPr>
              <a:t>Criterios para asignar los recursos de transport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USVA (UVI móvil)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En general, pacientes inestabl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Pacientes con tarjeta roj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Pacientes con tarjeta amarilla que estén inestabl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Pacientes que precisen asistencia durante el traslad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JC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ECEB-EFF4-4B87-9213-1FBAC78AE3D6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Comic Sans MS"/>
              </a:rPr>
              <a:t>TRIA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USVB (Unidad de Soporte Vital Básico)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En general, pacientes establ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Pacientes con tarjeta amarilla establ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Pacientes con tarjeta verde y múltiples lesion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JC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4582-B020-4AB7-8ED3-95076A1C3EFB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Comic Sans MS"/>
              </a:rPr>
              <a:t>TRIA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Helicóptero medicalizado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Pacientes con tarjeta roj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Pacientes que precisen traslados a centros alejados del acciden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JC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5D7D-CCFF-470D-8DCC-900FB4A219C6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Comic Sans MS"/>
              </a:rPr>
              <a:t>TRIA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El triage junto al transporte sigue las reglas de las tres E o de las tres T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MT Extra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Etiquetado-Estabilización-Evacuació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MT Extra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Triage-Tratamiento-Transpor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JC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6F8B-7413-4B79-A568-74C62904F136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Comic Sans MS"/>
              </a:rPr>
              <a:t>TRIAGE</a:t>
            </a:r>
            <a:br>
              <a:rPr sz="4400"/>
            </a:b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Diferencias entre 1º y 2º triag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PRIMER TRIAGE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SEGUNDO TRIA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Objetivo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Orden de atención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        Orden de evacuació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Fundamento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Funcional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        Lesional o mix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Complejidad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Sencillo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        Complej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Tiempo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&lt;1 minuto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        &gt;1 minu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Responsable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Personal adiestrado         Sanitarios entrenad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Precisión 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Por exceso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        Gran precisió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Lugar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Zona de impacto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        Salida area de atenció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JC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8422-32C7-4D8C-8AFD-A9B6332EE7C9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Comic Sans MS"/>
              </a:rPr>
              <a:t>TRIA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CAUS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En catástrofes se actúa frente a una desproporción de necesidades frente a unos medios limitados de asistenci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Es el método de obtener el máximo rendimiento de los medi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Se prioriza el interés colectivo sobre el individu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La situación es tempor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JC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291D-C18F-4439-BE40-7E8BB67524E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chiste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JCC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743E-E264-41D3-B6E0-BC0EC24DC633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438280" y="2971800"/>
            <a:ext cx="419112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Comic Sans MS"/>
              </a:rPr>
              <a:t>TRIA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304560" y="3809880"/>
            <a:ext cx="8305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omic Sans MS"/>
              </a:rPr>
              <a:t>GRACIAS POR SU ATENC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5" name="fondo" descr=""/>
          <p:cNvPicPr/>
          <p:nvPr/>
        </p:nvPicPr>
        <p:blipFill>
          <a:blip r:embed="rId2"/>
          <a:stretch/>
        </p:blipFill>
        <p:spPr>
          <a:xfrm>
            <a:off x="5562720" y="0"/>
            <a:ext cx="3581280" cy="1905120"/>
          </a:xfrm>
          <a:prstGeom prst="rect">
            <a:avLst/>
          </a:prstGeom>
          <a:ln w="0">
            <a:noFill/>
          </a:ln>
        </p:spPr>
      </p:pic>
      <p:pic>
        <p:nvPicPr>
          <p:cNvPr id="206" name="fondo" descr=""/>
          <p:cNvPicPr/>
          <p:nvPr/>
        </p:nvPicPr>
        <p:blipFill>
          <a:blip r:embed="rId3"/>
          <a:stretch/>
        </p:blipFill>
        <p:spPr>
          <a:xfrm>
            <a:off x="0" y="4952880"/>
            <a:ext cx="3581280" cy="1905120"/>
          </a:xfrm>
          <a:prstGeom prst="rect">
            <a:avLst/>
          </a:prstGeom>
          <a:ln w="0">
            <a:noFill/>
          </a:ln>
        </p:spPr>
      </p:pic>
      <p:pic>
        <p:nvPicPr>
          <p:cNvPr id="207" name="fondo" descr=""/>
          <p:cNvPicPr/>
          <p:nvPr/>
        </p:nvPicPr>
        <p:blipFill>
          <a:blip r:embed="rId4"/>
          <a:stretch/>
        </p:blipFill>
        <p:spPr>
          <a:xfrm>
            <a:off x="5562720" y="4952880"/>
            <a:ext cx="3581280" cy="1905120"/>
          </a:xfrm>
          <a:prstGeom prst="rect">
            <a:avLst/>
          </a:prstGeom>
          <a:ln w="0">
            <a:noFill/>
          </a:ln>
        </p:spPr>
      </p:pic>
      <p:pic>
        <p:nvPicPr>
          <p:cNvPr id="208" name="fondo" descr=""/>
          <p:cNvPicPr/>
          <p:nvPr/>
        </p:nvPicPr>
        <p:blipFill>
          <a:blip r:embed="rId5"/>
          <a:stretch/>
        </p:blipFill>
        <p:spPr>
          <a:xfrm>
            <a:off x="0" y="0"/>
            <a:ext cx="35812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5050"/>
                </a:solidFill>
                <a:latin typeface="Comic Sans MS"/>
              </a:rPr>
              <a:t>TRIA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Comic Sans MS"/>
              </a:rPr>
              <a:t>La asistencia sanitaria en catástrofes debe seguir los pasos de la medicina prehospitalari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Comic Sans MS"/>
              </a:rPr>
              <a:t>                 </a:t>
            </a:r>
            <a:r>
              <a:rPr b="0" lang="en-US" sz="3200" spc="-1" strike="noStrike">
                <a:solidFill>
                  <a:srgbClr val="ff5050"/>
                </a:solidFill>
                <a:latin typeface="Comic Sans MS"/>
              </a:rPr>
              <a:t>* Etiquetació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Comic Sans MS"/>
              </a:rPr>
              <a:t>                 </a:t>
            </a:r>
            <a:r>
              <a:rPr b="0" lang="en-US" sz="3200" spc="-1" strike="noStrike">
                <a:solidFill>
                  <a:srgbClr val="ff5050"/>
                </a:solidFill>
                <a:latin typeface="Comic Sans MS"/>
              </a:rPr>
              <a:t>* Estabilizació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Comic Sans MS"/>
              </a:rPr>
              <a:t>                 </a:t>
            </a:r>
            <a:r>
              <a:rPr b="0" lang="en-US" sz="3200" spc="-1" strike="noStrike">
                <a:solidFill>
                  <a:srgbClr val="ff5050"/>
                </a:solidFill>
                <a:latin typeface="Comic Sans MS"/>
              </a:rPr>
              <a:t>* Evacuació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JC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639B-A53D-4D50-91F8-D8C65017012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ff"/>
                </a:solidFill>
                <a:latin typeface="Comic Sans MS"/>
              </a:rPr>
              <a:t>TRIA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Comic Sans MS"/>
              </a:rPr>
              <a:t>El triaje lo debe realizar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33ccff"/>
                </a:solidFill>
                <a:latin typeface="Comic Sans MS"/>
              </a:rPr>
              <a:t>*Sanitario con amplia experiencia en urgencias/emergencias, con formación multidisciplina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33ccff"/>
                </a:solidFill>
                <a:latin typeface="Comic Sans MS"/>
              </a:rPr>
              <a:t>*Con serenidad, organización, dotes de mando e imaginació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33ccff"/>
                </a:solidFill>
                <a:latin typeface="Comic Sans MS"/>
              </a:rPr>
              <a:t>*Conocerá los medios humanos/materiales disponib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Comic Sans MS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JC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9B11-AA57-4344-9F67-134A41A327C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4T16:34:45Z</dcterms:created>
  <dc:creator>micasa</dc:creator>
  <dc:description/>
  <dc:language>en-US</dc:language>
  <cp:lastModifiedBy>Agustín Prieto</cp:lastModifiedBy>
  <cp:lastPrinted>2001-11-18T16:41:04Z</cp:lastPrinted>
  <dcterms:modified xsi:type="dcterms:W3CDTF">2004-09-09T10:16:30Z</dcterms:modified>
  <cp:revision>109</cp:revision>
  <dc:subject/>
  <dc:title>TRIAJE</dc:title>
</cp:coreProperties>
</file>