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8201-A73D-48FB-B448-9EE44EB4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5802-2737-4035-BFEB-4D9B4C1D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6664-2368-4328-8F43-C040E5BD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26B8-58B1-475C-9778-B49C4BBF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E4BC-505E-4871-B6B1-42E04A1D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1290-D649-4C7A-BF8D-648C4BB8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70E9-2C60-4287-86D2-45C2481D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6AE7-5300-4BDA-886C-A9A91E98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BE82-9A17-40EE-A29E-0A260897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63EC-04FD-4FC6-B5F4-E8D9F4D4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217C-61CC-41A6-8383-4BFA2343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9CF2-8959-421E-945E-D32D0399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17D6-4EA8-4332-8D9B-C869999B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9E3B-5F20-4864-812B-252E2F9C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8E1F-331D-4C4C-8115-CAB7AEE0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3495-36A1-4701-A7FB-137232E0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39E1-22F7-460D-9A2C-CE2299C6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12B1-B11D-4197-887E-B359C814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C8F41-CB7F-4BA6-9C81-2BB90147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3A02-0645-41AD-B4BC-AB858973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DAE7-AD47-4109-9437-D0E906DB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1BFF-ECE7-4CF4-B7CE-6E09BA3C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D943D-A3B7-40F6-8BAE-4E404616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A948-B9E0-4457-A46A-D398661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B118-EE82-4EE3-BE2D-5B4DF8B1DC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73D3-7BB8-4648-BB00-B97BEC4D09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CANALIZACION DE VIAS PERIFERICAS EN EL AMBITO DE LA EMERGENCI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Garamond"/>
              </a:rPr>
              <a:t>AUTORES: </a:t>
            </a:r>
            <a:r>
              <a:rPr b="0" i="1" lang="es-ES" sz="2800" spc="-1" strike="noStrike">
                <a:solidFill>
                  <a:srgbClr val="ffcc00"/>
                </a:solidFill>
                <a:latin typeface="Garamond"/>
              </a:rPr>
              <a:t>Prados Sande, C.; Pampín Gómez, R; Barcia Baliñas, M; Bonome Garrido, A.; Nieto Pol, O; Oubiña González, 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ANALIZACION DE VIAS PERIFERICAS EN EL AMBITO DE LA EMERGENCI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0563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ANALIZACION DE VIAS PERIFERICAS EN EL AMBITO DE LA EMERGENCI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OBJETIV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Describir las condiciones de canalización de vías periféricas y la dificultad de deshacerse del material contaminado de forma protocoliza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ANALIZACION DE VIAS PERIFERICAS EN EL AMBITO DE LA EMERGENCI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MATERIAL Y METOD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Estudio descriptivo transver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Periodo de reclutamiento: 1 de febrero al 30 de agosto de 2004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 diseña cuestionario específico con distintas variab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7200" y="301680"/>
            <a:ext cx="79599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CANALIZACION DE VIAS PERIFERICAS EN EL AMBITO DE LA EMERGENCI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920" y="1628640"/>
          <a:ext cx="4035240" cy="21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403524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43280" y="1557360"/>
          <a:ext cx="403884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557360"/>
                    <a:ext cx="403884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66560" y="3936960"/>
          <a:ext cx="4017960" cy="21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6560" y="3936960"/>
                    <a:ext cx="40179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643280" y="3933720"/>
          <a:ext cx="4017960" cy="21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3933720"/>
                    <a:ext cx="40179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ANALIZACION DE VIAS PERIFERICAS EN EL AMBITO DE LA EMERGENCI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55736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659480" y="3938760"/>
          <a:ext cx="4014720" cy="21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3938760"/>
                    <a:ext cx="401472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486320" y="1636560"/>
          <a:ext cx="5048280" cy="239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6320" y="1636560"/>
                    <a:ext cx="5048280" cy="23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ANALIZACION DE VIAS PERIFERICAS EN EL AMBITO DE LA EMERGENCI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ONCLUSIO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En el 46% de los casos las vías se canalizan fuera de la USVA no estando el contenedor de agujas fijo accesible. Esto justificaría la necesidad de incorporar contenedores portáti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23:05:33Z</dcterms:created>
  <dc:creator>Carlos</dc:creator>
  <dc:description/>
  <dc:language>en-US</dc:language>
  <cp:lastModifiedBy>Carlos</cp:lastModifiedBy>
  <dcterms:modified xsi:type="dcterms:W3CDTF">2004-11-11T19:50:40Z</dcterms:modified>
  <cp:revision>7</cp:revision>
  <dc:subject/>
  <dc:title>CANALIZACION DE VIAS PERIFERICAS EN EL AMBITO DE LA EMERGENCIA</dc:title>
</cp:coreProperties>
</file>